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0.gif" ContentType="image/gif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932-036C-4493-9E19-920922AE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49AF-D05D-4DC0-8DD6-44FDFBC4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0A0-215E-4E83-959C-206E6DC2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234-C519-4098-9FF2-9F0D45CC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04A-6B2D-4E33-80CA-E0882D0C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46C-FEE8-440E-B52A-2595E836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8035-3398-4ED4-8715-037CFE69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AB05-F088-4B02-9206-6C70E445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003-1C84-4E73-8BA9-413379CA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54E9-D256-4C93-8A49-B419F6EA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E29D-DFC1-406A-AD62-1F432657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9B01-1B91-402A-8BA0-94B6C473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52CF-2C09-4E5A-B9DF-40B62C7232E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4000" y="4680"/>
            <a:ext cx="4648320" cy="2847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Fabbrica delle Prote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NA e R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067280" y="3171960"/>
            <a:ext cx="48765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4360" y="2133720"/>
            <a:ext cx="4608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ma che la cellula si divida, il DNA si duplica per poter trasmettere una copia di sé stesso a ognuna delle due cellule figli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Gli acidi nucle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553000" y="1916280"/>
            <a:ext cx="3591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4360" y="2133720"/>
            <a:ext cx="4608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duplicazione del DNA comporta l’intervento dell’enzima </a:t>
            </a:r>
            <a:r>
              <a:rPr b="0" lang="en-US" sz="2800" spc="-1" strike="noStrike">
                <a:solidFill>
                  <a:srgbClr val="800000"/>
                </a:solidFill>
                <a:latin typeface="Comic Sans MS"/>
              </a:rPr>
              <a:t>DNA polimeras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he divide in due la molecola: le basi di ciascun filamento cercano le basi complementari e vi si appaion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Gli acidi nucle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553000" y="1916280"/>
            <a:ext cx="3591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4360" y="2133720"/>
            <a:ext cx="4608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generano in tal modo due doppie eliche, di cui la metà è fatta dal vecchio filamento e metà dal nuovo filamen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Gli acidi nucle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553000" y="1916280"/>
            <a:ext cx="3591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4360" y="2133720"/>
            <a:ext cx="51829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DNA, che non può uscire dal nucleo, si serve dell’RNA, che può migrare nel citoplasma, per dirigere la sintesi delle prote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’RNA porta così nel citoplasma le “informazioni” che il DNA gli ha trasferi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580000" y="1197000"/>
            <a:ext cx="3505320" cy="5661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Sintesi delle prote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24360" y="125280"/>
            <a:ext cx="3200400" cy="6616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4360" y="2133720"/>
            <a:ext cx="6696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’RNA è simile al DNA m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2852640"/>
            <a:ext cx="7417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È formato da un </a:t>
            </a:r>
            <a:r>
              <a:rPr b="0" lang="en-US" sz="2800" spc="-1" strike="noStrike">
                <a:solidFill>
                  <a:srgbClr val="800000"/>
                </a:solidFill>
                <a:latin typeface="Comic Sans MS"/>
              </a:rPr>
              <a:t>unic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ilamento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 posto della timina c’è l’</a:t>
            </a:r>
            <a:r>
              <a:rPr b="0" lang="en-US" sz="2800" spc="-1" strike="noStrike">
                <a:solidFill>
                  <a:srgbClr val="800000"/>
                </a:solidFill>
                <a:latin typeface="Comic Sans MS"/>
              </a:rPr>
              <a:t>urac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 il </a:t>
            </a:r>
            <a:r>
              <a:rPr b="0" lang="en-US" sz="2800" spc="-1" strike="noStrike">
                <a:solidFill>
                  <a:srgbClr val="800000"/>
                </a:solidFill>
                <a:latin typeface="Comic Sans MS"/>
              </a:rPr>
              <a:t>ribosi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 posto del desossiribosi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Sintesi delle prote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0000" y="155736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sequenza di DNA (gene) trasferisce l’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forma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2492280"/>
            <a:ext cx="7920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32702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’ RNA c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ri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9258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ntesi delle prote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4284720" y="4005360"/>
            <a:ext cx="79200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Sintesi delle prote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284720" y="1917720"/>
            <a:ext cx="4032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l citoplasma della cellula agiscono tre tipi di RNA: </a:t>
            </a:r>
            <a:r>
              <a:rPr b="0" lang="it-IT" sz="2800" spc="-1" strike="noStrike">
                <a:solidFill>
                  <a:srgbClr val="800000"/>
                </a:solidFill>
                <a:latin typeface="Comic Sans MS"/>
              </a:rPr>
              <a:t>messagge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2800" spc="-1" strike="noStrike">
                <a:solidFill>
                  <a:srgbClr val="800000"/>
                </a:solidFill>
                <a:latin typeface="Comic Sans MS"/>
              </a:rPr>
              <a:t>ribosomial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e di </a:t>
            </a:r>
            <a:r>
              <a:rPr b="0" lang="it-IT" sz="2800" spc="-1" strike="noStrike">
                <a:solidFill>
                  <a:srgbClr val="800000"/>
                </a:solidFill>
                <a:latin typeface="Comic Sans MS"/>
              </a:rPr>
              <a:t>trasferiment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578040" cy="4392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284720" y="1917720"/>
            <a:ext cx="4032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l citoplasma della cellula agiscono tre tipi di RNA: </a:t>
            </a:r>
            <a:r>
              <a:rPr b="0" lang="it-IT" sz="2800" spc="-1" strike="noStrike">
                <a:solidFill>
                  <a:srgbClr val="800000"/>
                </a:solidFill>
                <a:latin typeface="Comic Sans MS"/>
              </a:rPr>
              <a:t>messagge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2800" spc="-1" strike="noStrike">
                <a:solidFill>
                  <a:srgbClr val="800000"/>
                </a:solidFill>
                <a:latin typeface="Comic Sans MS"/>
              </a:rPr>
              <a:t>ribosomial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e di </a:t>
            </a:r>
            <a:r>
              <a:rPr b="0" lang="it-IT" sz="2800" spc="-1" strike="noStrike">
                <a:solidFill>
                  <a:srgbClr val="800000"/>
                </a:solidFill>
                <a:latin typeface="Comic Sans MS"/>
              </a:rPr>
              <a:t>trasferiment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3578040" cy="4392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Sintesi delle prote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26920" y="1917720"/>
            <a:ext cx="77774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’RNA messaggero (</a:t>
            </a:r>
            <a:r>
              <a:rPr b="0" lang="it-IT" sz="2800" spc="-1" strike="noStrike">
                <a:solidFill>
                  <a:srgbClr val="800000"/>
                </a:solidFill>
                <a:latin typeface="Comic Sans MS"/>
              </a:rPr>
              <a:t>mR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: copia la sequenza dei nucleotidi di un segmento di DNA (un gene) e dirige il montaggio degli aminoacidi che formeranno la protei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La Sintesi delle Prote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3716280"/>
            <a:ext cx="55450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6920" y="1917720"/>
            <a:ext cx="77774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’RNA ribosomiale (</a:t>
            </a:r>
            <a:r>
              <a:rPr b="0" lang="it-IT" sz="2800" spc="-1" strike="noStrike">
                <a:solidFill>
                  <a:srgbClr val="800000"/>
                </a:solidFill>
                <a:latin typeface="Comic Sans MS"/>
              </a:rPr>
              <a:t>rR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: forma i </a:t>
            </a:r>
            <a:r>
              <a:rPr b="0" lang="it-IT" sz="2800" spc="-1" strike="noStrike">
                <a:solidFill>
                  <a:srgbClr val="800000"/>
                </a:solidFill>
                <a:latin typeface="Comic Sans MS"/>
              </a:rPr>
              <a:t>ribosom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organelli del citoplasma dove avviene il montaggio della molecola proteic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La Sintesi delle Prote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84360" y="3683160"/>
            <a:ext cx="44197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2592720" cy="3182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1917720"/>
            <a:ext cx="77774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Gli RNA di trasferimento (</a:t>
            </a:r>
            <a:r>
              <a:rPr b="0" lang="it-IT" sz="2800" spc="-1" strike="noStrike">
                <a:solidFill>
                  <a:srgbClr val="800000"/>
                </a:solidFill>
                <a:latin typeface="Comic Sans MS"/>
              </a:rPr>
              <a:t>tR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rasferiscono i singoli aminoacidi sui ribosomi in base alle istruzioni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ell’RNA messagge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Sintesi delle prote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3694320" cy="4052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Gli acidi nucle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proteine sono i mattoni fondamentali di ogni essere viven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proteine sono una sequenza di aminoacidi costruite secondo le istruzioni contenute nel </a:t>
            </a:r>
            <a:r>
              <a:rPr b="0" lang="en-US" sz="2800" spc="-1" strike="noStrike">
                <a:solidFill>
                  <a:srgbClr val="800000"/>
                </a:solidFill>
                <a:latin typeface="Comic Sans MS"/>
              </a:rPr>
              <a:t>D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1640" y="2075040"/>
            <a:ext cx="3456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lla sintesi delle proteine si distinguono due fasi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2800" spc="-1" strike="noStrike">
                <a:solidFill>
                  <a:srgbClr val="800000"/>
                </a:solidFill>
                <a:latin typeface="Comic Sans MS"/>
              </a:rPr>
              <a:t>trascri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2800" spc="-1" strike="noStrike">
                <a:solidFill>
                  <a:srgbClr val="800000"/>
                </a:solidFill>
                <a:latin typeface="Comic Sans MS"/>
              </a:rPr>
              <a:t>tradu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228920" cy="4086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Sintesi delle prote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2641680"/>
            <a:ext cx="8128080" cy="4216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403280" y="1700280"/>
            <a:ext cx="61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urante la trascrizione uno dei due filamenti del DNA viene “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lett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” da un enzima che avvia la sintesi di una molecole di mR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Sintesi delle prote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1844640"/>
            <a:ext cx="417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a traduzione avviene sul ribosoma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urante la traduzione la sequenza dei nucleotidi dell’mRNA determina la sequenza degli aminoacidi nella costruzione della molecola proteic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076720" y="190440"/>
            <a:ext cx="3810240" cy="6667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274680"/>
            <a:ext cx="48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Sintesi delle prote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Sintesi delle prote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41768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er portare un certo aminoacido sul ribosoma interviene una molecola di tRNA: il ribosoma scorre come un rullo lungo la molecola di mRNA, mentre le molecole di tRNA forniscono via via i singoli aminoacidi che formeranno la protei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916360" y="3933720"/>
            <a:ext cx="33130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Comic Sans MS"/>
              </a:rPr>
              <a:t>Sintesi delle prote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28920" y="1714680"/>
            <a:ext cx="4286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25693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1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51280" y="1835280"/>
            <a:ext cx="5292720" cy="3530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Il codice genet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84464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codice genetico è il sistema per cui le informazioni genetiche “scritte” sui geni del DNA arrivano a operare la sintesi di tutte le proteine necessarie alla vita degli organismi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Il codice genet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84464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suo linguaggio si basa su un "alfabeto" molecolare rappresentato dalla sequenza dei nucleotidi del DNA, che viene tradotto nella sequenza degli amminoacidi di una proteina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564000" y="4221000"/>
            <a:ext cx="18716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Il codice genet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84464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codice genetico dispone di 4 "lettere" (le 4 diverse basi azotate) per “agganciare” i 20 amminoacidi. Se ogni nucleotide fosse in grado di individuare e scegliere un solo aminoacido, come sarebbe possibile individuare gli altri sedici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64000" y="4221000"/>
            <a:ext cx="18716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Il codice genet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844640"/>
            <a:ext cx="496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ccorre quindi che siano gruppi di 3 nucleotidi (triplette) a identificare e individuare tutti i 20 aminoacidi presenti. In questo modo si hanno 64 combinazioni di triplette di nucleotidi diverse (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64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35640" y="2133720"/>
            <a:ext cx="34113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Il codice genet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475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codice genetico è </a:t>
            </a:r>
            <a:r>
              <a:rPr b="0" lang="en-US" sz="2800" spc="-1" strike="noStrike">
                <a:solidFill>
                  <a:srgbClr val="800000"/>
                </a:solidFill>
                <a:latin typeface="Comic Sans MS"/>
              </a:rPr>
              <a:t>ridondan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poiché uno stesso amminoacido è codificato da più di una tripletta. Le triplette che codificano lo stesso amminoacido sono molto simili e generalmente differiscono solo per l'ultima delle tre basi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65292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3280" y="1341360"/>
            <a:ext cx="3181680" cy="4638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Gli acidi nucle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1844640"/>
            <a:ext cx="346716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Comic Sans MS"/>
              </a:rPr>
              <a:t>DNA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it-IT" sz="2800" spc="-1" strike="noStrike">
                <a:solidFill>
                  <a:srgbClr val="800000"/>
                </a:solidFill>
                <a:latin typeface="Comic Sans MS"/>
              </a:rPr>
              <a:t>R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sono polinucleotidi, cioè molecole formate da tante unità collegate tra loro chiamate nucleotid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Il codice genet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1844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codice genetico </a:t>
            </a:r>
            <a:r>
              <a:rPr b="0" lang="en-US" sz="2800" spc="-1" strike="noStrike">
                <a:solidFill>
                  <a:srgbClr val="800000"/>
                </a:solidFill>
                <a:latin typeface="Comic Sans MS"/>
              </a:rPr>
              <a:t>non è ambigu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el senso che ciascuna tripletta codifica per uno e uno solo aminoacid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56000" y="3213000"/>
            <a:ext cx="3784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Il codice genet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132000" y="3716280"/>
            <a:ext cx="4699080" cy="2540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303200" y="2349360"/>
            <a:ext cx="3044880" cy="4508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575480" y="4960800"/>
            <a:ext cx="1568520" cy="1897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39640" y="141300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codice genetico è</a:t>
            </a:r>
            <a:r>
              <a:rPr b="0" lang="en-US" sz="2800" spc="-1" strike="noStrike">
                <a:solidFill>
                  <a:srgbClr val="800000"/>
                </a:solidFill>
                <a:latin typeface="Comic Sans MS"/>
              </a:rPr>
              <a:t> universalmente valid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nel senso che ogni tripletta codifica per un determinato aminoacido in tutti gli esseri vivent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0" y="5118120"/>
            <a:ext cx="32767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60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F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Gli acidi nucle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562752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 nucleotide è formato dalla combinazione di tre moleco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ido fosforico (</a:t>
            </a:r>
            <a:r>
              <a:rPr b="0" lang="en-US" sz="2800" spc="-1" strike="noStrike">
                <a:solidFill>
                  <a:srgbClr val="8000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ucchero (</a:t>
            </a:r>
            <a:r>
              <a:rPr b="0" lang="en-US" sz="2800" spc="-1" strike="noStrike">
                <a:solidFill>
                  <a:srgbClr val="8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 (</a:t>
            </a:r>
            <a:r>
              <a:rPr b="0" lang="en-US" sz="2800" spc="-1" strike="noStrike">
                <a:solidFill>
                  <a:srgbClr val="8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59280" y="2637000"/>
            <a:ext cx="385776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Gli acidi nucle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773360"/>
            <a:ext cx="3708360" cy="41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 basi del DNA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ono quattro: adenina (</a:t>
            </a:r>
            <a:r>
              <a:rPr b="0" lang="it-IT" sz="2800" spc="-1" strike="noStrike">
                <a:solidFill>
                  <a:srgbClr val="800000"/>
                </a:solidFill>
                <a:latin typeface="Comic Sans MS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, guanina (</a:t>
            </a:r>
            <a:r>
              <a:rPr b="0" lang="it-IT" sz="2800" spc="-1" strike="noStrike">
                <a:solidFill>
                  <a:srgbClr val="800000"/>
                </a:solidFill>
                <a:latin typeface="Comic Sans MS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, citosina (</a:t>
            </a:r>
            <a:r>
              <a:rPr b="0" lang="it-IT" sz="2800" spc="-1" strike="noStrike">
                <a:solidFill>
                  <a:srgbClr val="800000"/>
                </a:solidFill>
                <a:latin typeface="Comic Sans MS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e timina (</a:t>
            </a:r>
            <a:r>
              <a:rPr b="0" lang="it-IT" sz="2800" spc="-1" strike="noStrike">
                <a:solidFill>
                  <a:srgbClr val="800000"/>
                </a:solidFill>
                <a:latin typeface="Comic Sans MS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;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ll’ RNA la timina è sostituita dall’uracile (</a:t>
            </a:r>
            <a:r>
              <a:rPr b="0" lang="it-IT" sz="2800" spc="-1" strike="noStrike">
                <a:solidFill>
                  <a:srgbClr val="800000"/>
                </a:solidFill>
                <a:latin typeface="Comic Sans MS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024440" y="1773360"/>
            <a:ext cx="511956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Gli acidi nucle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1773360"/>
            <a:ext cx="61214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molecole di DNA e RNA hanno la forma di una catena, detta </a:t>
            </a:r>
            <a:r>
              <a:rPr b="0" lang="en-US" sz="2800" spc="-1" strike="noStrike">
                <a:solidFill>
                  <a:srgbClr val="800000"/>
                </a:solidFill>
                <a:latin typeface="Comic Sans MS"/>
              </a:rPr>
              <a:t>filamen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in cui ciascuna molecola di acido fosforico P si alterna ad una molecola di zucchero Z. Attaccata a ciascuna molecola di zucchero Z vi è una base 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19814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281640" y="0"/>
            <a:ext cx="2862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Gli acidi nucle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773360"/>
            <a:ext cx="5616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molecole di DNA e RNA contengono le informazioni per la sintesi delle prote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informazioni contenute nel DNA sono rappresentate dall’ordine in cui sono disposti i nucleotid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Gli acidi nucle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064040" y="0"/>
            <a:ext cx="5079960" cy="3619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2133720"/>
            <a:ext cx="4608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a specifica sequenza nucleotidica costituisce un </a:t>
            </a:r>
            <a:r>
              <a:rPr b="0" lang="en-US" sz="2800" spc="-1" strike="noStrike">
                <a:solidFill>
                  <a:srgbClr val="800000"/>
                </a:solidFill>
                <a:latin typeface="Comic Sans MS"/>
              </a:rPr>
              <a:t>ge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Un gene è quindi un tratto di DNA che dirige la costruzione di una protei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4360" y="2133720"/>
            <a:ext cx="4608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molecola di DNA è formata da due filamenti o eliche accostate (</a:t>
            </a:r>
            <a:r>
              <a:rPr b="0" lang="en-US" sz="2800" spc="-1" strike="noStrike">
                <a:solidFill>
                  <a:srgbClr val="800000"/>
                </a:solidFill>
                <a:latin typeface="Comic Sans MS"/>
              </a:rPr>
              <a:t>doppia eli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in modo che la base adenina si appaia solo con la timina e la base citosina solo con la guani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281640" y="0"/>
            <a:ext cx="28623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Gli acidi nucleic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2:34:11Z</dcterms:created>
  <dc:creator>ciao</dc:creator>
  <dc:description/>
  <dc:language>en-US</dc:language>
  <cp:lastModifiedBy>amedeo</cp:lastModifiedBy>
  <dcterms:modified xsi:type="dcterms:W3CDTF">2012-11-03T18:46:08Z</dcterms:modified>
  <cp:revision>42</cp:revision>
  <dc:subject/>
  <dc:title>La Genetica</dc:title>
</cp:coreProperties>
</file>