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15.jpeg" ContentType="image/jpeg"/>
  <Override PartName="/ppt/media/image27.jpeg" ContentType="image/jpeg"/>
  <Override PartName="/ppt/media/image25.png" ContentType="image/png"/>
  <Override PartName="/ppt/media/image19.jpeg" ContentType="image/jpeg"/>
  <Override PartName="/ppt/media/image21.jpeg" ContentType="image/jpeg"/>
  <Override PartName="/ppt/media/image20.jpeg" ContentType="image/jpeg"/>
  <Override PartName="/ppt/media/image28.jpeg" ContentType="image/jpeg"/>
  <Override PartName="/ppt/media/image18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4.png" ContentType="image/png"/>
  <Override PartName="/ppt/media/image12.jpeg" ContentType="image/jpeg"/>
  <Override PartName="/ppt/media/image40.png" ContentType="image/png"/>
  <Override PartName="/ppt/media/image9.jpeg" ContentType="image/jpeg"/>
  <Override PartName="/ppt/media/image11.jpeg" ContentType="image/jpeg"/>
  <Override PartName="/ppt/media/image42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45.png" ContentType="image/png"/>
  <Override PartName="/ppt/media/image46.png" ContentType="image/png"/>
  <Override PartName="/ppt/media/image47.jpeg" ContentType="image/jpeg"/>
  <Override PartName="/ppt/media/image31.jpeg" ContentType="image/jpeg"/>
  <Override PartName="/ppt/media/image41.png" ContentType="image/png"/>
  <Override PartName="/ppt/media/image48.jpeg" ContentType="image/jpeg"/>
  <Override PartName="/ppt/media/image32.jpeg" ContentType="image/jpeg"/>
  <Override PartName="/ppt/media/image49.jpeg" ContentType="image/jpeg"/>
  <Override PartName="/ppt/media/image10.jpeg" ContentType="image/jpeg"/>
  <Override PartName="/ppt/media/image50.png" ContentType="image/png"/>
  <Override PartName="/ppt/media/image35.png" ContentType="image/png"/>
  <Override PartName="/ppt/media/image5.png" ContentType="image/png"/>
  <Override PartName="/ppt/media/image43.jpeg" ContentType="image/jpeg"/>
  <Override PartName="/ppt/media/image34.jpeg" ContentType="image/jpeg"/>
  <Override PartName="/ppt/media/image7.png" ContentType="image/png"/>
  <Override PartName="/ppt/media/image1.jpeg" ContentType="image/jpeg"/>
  <Override PartName="/ppt/media/image39.png" ContentType="image/png"/>
  <Override PartName="/ppt/media/image22.jpeg" ContentType="image/jpeg"/>
  <Override PartName="/ppt/media/image6.png" ContentType="image/png"/>
  <Override PartName="/ppt/media/image44.png" ContentType="image/pn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4591-4704-44D1-A8D8-D102FC97B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7C13-7018-4A96-9AE3-32060A382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EAE2-021D-4661-B76F-1FB344923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3A64-DA5E-4428-B695-BC344F992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AEA0-840D-42C1-9A2F-7C35F7AE9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8948-10A5-4524-AB26-6DF72CA50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B9A8-6CA7-449F-AC0A-CD36DF2DE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9FB8-2E81-44CE-84C5-227570B6A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36A1-9440-4185-AAB5-24AB40F0B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97A2-027D-4EF9-A97F-9CCBCF33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9431-9B60-4886-BB5D-C9C834D2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2567-C435-4EF1-ACF9-AAC3428E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8FACE-DA1C-4200-9DF3-A66E3C8109D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18920" y="404640"/>
            <a:ext cx="62643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a50021"/>
                </a:solidFill>
                <a:latin typeface="Comic Sans MS"/>
              </a:rPr>
              <a:t>Gli Organi di Sens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700360" y="1557360"/>
            <a:ext cx="4464000" cy="44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411280" y="0"/>
            <a:ext cx="4681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L’occhio: la vis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"/>
          <p:cNvSpPr/>
          <p:nvPr/>
        </p:nvSpPr>
        <p:spPr>
          <a:xfrm>
            <a:off x="539640" y="112536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Il Bulbo Ocula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50799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435640" y="2708280"/>
            <a:ext cx="327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parte esterna del bulbo oculare è formata da tre membrane: la </a:t>
            </a:r>
            <a:r>
              <a:rPr b="0" i="1" lang="en-US" sz="2400" spc="-1" strike="noStrike">
                <a:solidFill>
                  <a:srgbClr val="a50021"/>
                </a:solidFill>
                <a:latin typeface="Comic Sans MS"/>
              </a:rPr>
              <a:t>sclerotica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0" i="1" lang="en-US" sz="2400" spc="-1" strike="noStrike">
                <a:solidFill>
                  <a:srgbClr val="a50021"/>
                </a:solidFill>
                <a:latin typeface="Comic Sans MS"/>
              </a:rPr>
              <a:t>coroide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 la </a:t>
            </a:r>
            <a:r>
              <a:rPr b="0" i="1" lang="en-US" sz="2400" spc="-1" strike="noStrike">
                <a:solidFill>
                  <a:srgbClr val="a50021"/>
                </a:solidFill>
                <a:latin typeface="Comic Sans MS"/>
              </a:rPr>
              <a:t>retina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411280" y="0"/>
            <a:ext cx="4681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L’occhio: la vis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112536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Il Bulbo Ocula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5079960" cy="41148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435640" y="2216160"/>
            <a:ext cx="356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sclerotica (o sclera), corrisponde al "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bianco dell'occhi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"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lla parte anteriore diviene trasparente e convessa e forma la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cornea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e funziona da lente convergente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"/>
          <p:cNvSpPr/>
          <p:nvPr/>
        </p:nvSpPr>
        <p:spPr>
          <a:xfrm>
            <a:off x="4211640" y="5013360"/>
            <a:ext cx="863640" cy="36036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"/>
          <p:cNvSpPr/>
          <p:nvPr/>
        </p:nvSpPr>
        <p:spPr>
          <a:xfrm>
            <a:off x="2050920" y="2205000"/>
            <a:ext cx="1008360" cy="36036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411280" y="0"/>
            <a:ext cx="4681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L’occhio: la vis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112536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Il Bulbo Ocula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5079960" cy="41148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435640" y="1916280"/>
            <a:ext cx="356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coroid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 colore nero, si trova al di sotto della sclerotica. Anch'essa si modifica nella parte anteriore, dove, in corrispondenza della cornea, forma l'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irid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anello muscolar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 varie colorazion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3789360"/>
            <a:ext cx="863280" cy="36036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"/>
          <p:cNvSpPr/>
          <p:nvPr/>
        </p:nvSpPr>
        <p:spPr>
          <a:xfrm>
            <a:off x="4570560" y="2997360"/>
            <a:ext cx="649080" cy="36036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411280" y="0"/>
            <a:ext cx="4681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L’occhio: la vis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112536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Il Bulbo Ocula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5079960" cy="41148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435640" y="2708280"/>
            <a:ext cx="356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 centro dell'iride c'è la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pupilla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 foro regolabile per il passaggio dei raggi luminosi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4787640" y="3429000"/>
            <a:ext cx="1871640" cy="504720"/>
          </a:xfrm>
          <a:prstGeom prst="line">
            <a:avLst/>
          </a:prstGeom>
          <a:ln w="255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411280" y="0"/>
            <a:ext cx="4681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L’occhio: la vis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"/>
          <p:cNvSpPr/>
          <p:nvPr/>
        </p:nvSpPr>
        <p:spPr>
          <a:xfrm>
            <a:off x="539640" y="112536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Il Bulbo Ocula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5079960" cy="41148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364000" y="1484280"/>
            <a:ext cx="356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rètin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la membrana più interna, è formata da vari strati di cellule. Lo strato più importante contiene le cellule sensibili alla luce, i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fotorecettori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i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con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 i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bastoncell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: questi si collegano alle fibre del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nervo ottico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e invia al cervello le informazioni visiv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"/>
          <p:cNvSpPr/>
          <p:nvPr/>
        </p:nvSpPr>
        <p:spPr>
          <a:xfrm>
            <a:off x="1620720" y="1844640"/>
            <a:ext cx="863640" cy="36036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411280" y="0"/>
            <a:ext cx="4681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L’occhio: la vis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"/>
          <p:cNvSpPr/>
          <p:nvPr/>
        </p:nvSpPr>
        <p:spPr>
          <a:xfrm>
            <a:off x="539640" y="112536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Il Bulbo Ocula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"/>
          <p:cNvSpPr/>
          <p:nvPr/>
        </p:nvSpPr>
        <p:spPr>
          <a:xfrm>
            <a:off x="1332000" y="2349360"/>
            <a:ext cx="403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etro l'iride si trova il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cristallino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a piccola lente biconvessa, trasparente, che consente di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"mettere a fuoco"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gli oggetti secondo la distanza a cui si trovan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435640" y="2349360"/>
            <a:ext cx="3708360" cy="284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411280" y="0"/>
            <a:ext cx="4681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L’occhio: la vis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112536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Il Bulbo Ocula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"/>
          <p:cNvSpPr/>
          <p:nvPr/>
        </p:nvSpPr>
        <p:spPr>
          <a:xfrm>
            <a:off x="1116000" y="1844640"/>
            <a:ext cx="4032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Umor acque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cristallino e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umor vitre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ostituiscono un sistema perfettamente trasparente di lenti che per la loro composizione e per la possibilità del cristallino di modificare la propria curvatura ottimizzano la visione nelle diverse situazioni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796000" y="2205000"/>
            <a:ext cx="2984400" cy="29592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012000" y="2781360"/>
            <a:ext cx="144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411280" y="0"/>
            <a:ext cx="4681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L’occhio: la vis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539640" y="765000"/>
            <a:ext cx="338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Come funziona l’occhi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3500280"/>
            <a:ext cx="208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La pupilla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gola la quantità di luce in ingresso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"/>
          <p:cNvSpPr/>
          <p:nvPr/>
        </p:nvSpPr>
        <p:spPr>
          <a:xfrm>
            <a:off x="2411280" y="3844800"/>
            <a:ext cx="4249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2. L'umor acqueo e l'umor vitreo "concentrano“ l’immagine rimpicciolita sulla retina con il contributo del cristallino, che la mette a fuoco modificando la propria curvatura e, essendo una lente, la rovescia.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732720" y="2133720"/>
            <a:ext cx="958680" cy="13395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4360" y="1341360"/>
            <a:ext cx="1350720" cy="1800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187280" y="2276640"/>
            <a:ext cx="201636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3059280" y="1989000"/>
            <a:ext cx="2438280" cy="13906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flipV="1">
            <a:off x="1116000" y="2781000"/>
            <a:ext cx="223200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"/>
          <p:cNvSpPr/>
          <p:nvPr/>
        </p:nvSpPr>
        <p:spPr>
          <a:xfrm>
            <a:off x="5076720" y="3213000"/>
            <a:ext cx="19432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"/>
          <p:cNvSpPr/>
          <p:nvPr/>
        </p:nvSpPr>
        <p:spPr>
          <a:xfrm>
            <a:off x="6877080" y="3573360"/>
            <a:ext cx="208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Il sistema nervoso raddrizza l'immagin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743200" y="205740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0" y="0"/>
            <a:ext cx="914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Come funzion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"/>
          <p:cNvSpPr/>
          <p:nvPr/>
        </p:nvSpPr>
        <p:spPr>
          <a:xfrm>
            <a:off x="3276720" y="9810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Come funzion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"/>
          <p:cNvSpPr/>
          <p:nvPr/>
        </p:nvSpPr>
        <p:spPr>
          <a:xfrm>
            <a:off x="3276720" y="9810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229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2" dur="1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411280" y="0"/>
            <a:ext cx="4681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L’orecchio: l’udi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"/>
          <p:cNvSpPr/>
          <p:nvPr/>
        </p:nvSpPr>
        <p:spPr>
          <a:xfrm>
            <a:off x="1116000" y="166536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'udito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i consente di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percepire i suoni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ioè le onde sonore generate dalla vibrazione di un corpo e trasmesse attraverso l'ari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"/>
          <p:cNvSpPr/>
          <p:nvPr/>
        </p:nvSpPr>
        <p:spPr>
          <a:xfrm>
            <a:off x="1042920" y="5445000"/>
            <a:ext cx="69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'orecchio contiene i recettori per captare i suoni e i recettori per l'equilibrio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132000" y="2852640"/>
            <a:ext cx="3961080" cy="266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11280" y="0"/>
            <a:ext cx="4681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Gli Organi di Sens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1989000"/>
            <a:ext cx="38880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l corpo vi sono cellule, chiamate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recettor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specializzate nel ricevere gli stimol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se sono in gran parte raggruppate in organi detti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organi di sens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716360" y="198900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411280" y="0"/>
            <a:ext cx="4681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L’orecchio: l’udi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1116000" y="166536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ll'orecchio possiamo distinguere tre parti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700360" y="2492280"/>
            <a:ext cx="5079960" cy="3670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-468360" y="328464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i="1" lang="it-IT" sz="2400" spc="-1" strike="noStrike">
                <a:solidFill>
                  <a:srgbClr val="a50021"/>
                </a:solidFill>
                <a:latin typeface="Comic Sans MS"/>
              </a:rPr>
              <a:t>recchio estern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698920" y="2494080"/>
            <a:ext cx="5079960" cy="36702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2698920" y="2494080"/>
            <a:ext cx="5079960" cy="36702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580000" y="2637000"/>
            <a:ext cx="29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a50021"/>
                </a:solidFill>
                <a:latin typeface="Comic Sans MS"/>
              </a:rPr>
              <a:t>Orecchio interno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"/>
          <p:cNvSpPr/>
          <p:nvPr/>
        </p:nvSpPr>
        <p:spPr>
          <a:xfrm>
            <a:off x="3995640" y="551664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i="1" lang="it-IT" sz="2400" spc="-1" strike="noStrike">
                <a:solidFill>
                  <a:srgbClr val="a50021"/>
                </a:solidFill>
                <a:latin typeface="Comic Sans MS"/>
              </a:rPr>
              <a:t>recchio medi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539640" y="1125360"/>
            <a:ext cx="77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L’orecchio esterno raccoglie e trasmette i suoni ed è formato da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"/>
          <p:cNvSpPr/>
          <p:nvPr/>
        </p:nvSpPr>
        <p:spPr>
          <a:xfrm>
            <a:off x="1547640" y="2205000"/>
            <a:ext cx="61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l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padiglione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auricola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che ha la funzione di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raccoglier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convogliar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suoni verso il condotto uditivo esterno;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"/>
          <p:cNvSpPr/>
          <p:nvPr/>
        </p:nvSpPr>
        <p:spPr>
          <a:xfrm>
            <a:off x="2411280" y="0"/>
            <a:ext cx="4681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L’orecchio: l’udi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3619440"/>
            <a:ext cx="4762440" cy="323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050920" y="3187800"/>
            <a:ext cx="5079960" cy="36702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539640" y="1125360"/>
            <a:ext cx="77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L’orecchio esterno raccoglie e trasmette i suoni ed è formato da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2411280" y="0"/>
            <a:ext cx="4681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L’orecchio: l’udi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539640" y="1916280"/>
            <a:ext cx="820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l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condotto uditivo estern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un canale che termina con il </a:t>
            </a:r>
            <a:r>
              <a:rPr b="0" i="1" lang="en-US" sz="2400" spc="-1" strike="noStrike">
                <a:solidFill>
                  <a:srgbClr val="a50021"/>
                </a:solidFill>
                <a:latin typeface="Comic Sans MS"/>
              </a:rPr>
              <a:t>timpan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una membrana elastica che vibra quand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iene raggiunta dalle onde sonore e le trasmette all'orecchio medi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1763640" y="2637000"/>
            <a:ext cx="2808360" cy="2304720"/>
          </a:xfrm>
          <a:prstGeom prst="line">
            <a:avLst/>
          </a:prstGeom>
          <a:ln w="255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050920" y="3187800"/>
            <a:ext cx="5079960" cy="36702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539640" y="112536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L’orecchio medi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/>
          <p:nvPr/>
        </p:nvSpPr>
        <p:spPr>
          <a:xfrm>
            <a:off x="1187280" y="1700280"/>
            <a:ext cx="66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’orecchio medio è formato dalla cassa timpanica che comunica con la faringe mediante la </a:t>
            </a:r>
            <a:r>
              <a:rPr b="0" i="1" lang="it-IT" sz="2400" spc="-1" strike="noStrike">
                <a:solidFill>
                  <a:srgbClr val="a50021"/>
                </a:solidFill>
                <a:latin typeface="Comic Sans MS"/>
              </a:rPr>
              <a:t>tromba di Eustachio</a:t>
            </a: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he ha la funzione di equilibrare la pressione che l’aria esercita sul timpano.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2411280" y="0"/>
            <a:ext cx="4681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L’orecchio: l’udi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"/>
          <p:cNvSpPr/>
          <p:nvPr/>
        </p:nvSpPr>
        <p:spPr>
          <a:xfrm>
            <a:off x="5076720" y="2781360"/>
            <a:ext cx="647640" cy="3240000"/>
          </a:xfrm>
          <a:prstGeom prst="line">
            <a:avLst/>
          </a:prstGeom>
          <a:ln w="255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050920" y="3187800"/>
            <a:ext cx="5079960" cy="36702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539640" y="1125360"/>
            <a:ext cx="77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L’orecchio medio contiene gli ossicini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1187280" y="170028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Staff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incudin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martell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sono tre ossicini che comunicano con l’orecchio interno per mezzo della finestra ovale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2411280" y="0"/>
            <a:ext cx="4681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L’orecchio: l’udi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4284720" y="4076640"/>
            <a:ext cx="1150920" cy="1152720"/>
          </a:xfrm>
          <a:prstGeom prst="ellipse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050920" y="3187800"/>
            <a:ext cx="5079960" cy="36702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9640" y="1125360"/>
            <a:ext cx="77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L’orecchio intern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/>
          <p:nvPr/>
        </p:nvSpPr>
        <p:spPr>
          <a:xfrm>
            <a:off x="1187280" y="173196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’ formato da dei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canali semicircolar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 da piccole cavità piene di un liquido: l’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endolinf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2411280" y="0"/>
            <a:ext cx="4681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L’orecchio: l’udi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1187280" y="263700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chiocciol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è un canale avvolto a spirale dove risiede l’organo dell’udito,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l’organo del Cort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>
            <a:off x="5076720" y="4005360"/>
            <a:ext cx="1295640" cy="792000"/>
          </a:xfrm>
          <a:prstGeom prst="ellipse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/>
          <p:nvPr/>
        </p:nvSpPr>
        <p:spPr>
          <a:xfrm>
            <a:off x="5651640" y="4795920"/>
            <a:ext cx="1079280" cy="1081080"/>
          </a:xfrm>
          <a:prstGeom prst="ellipse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5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835280" y="3933720"/>
            <a:ext cx="6121440" cy="28116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539640" y="1125360"/>
            <a:ext cx="77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Come funziona l’orecchi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/>
          <p:nvPr/>
        </p:nvSpPr>
        <p:spPr>
          <a:xfrm>
            <a:off x="1187280" y="1628640"/>
            <a:ext cx="727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l suono, attraverso il condotto uditivo arriva alla membrana del timpano. Le vibrazioni, attraverso i tre ossicini, vengono amplificate e arrivano all’orecchio interno dove  l’organo del Corti le trasforma in impulsi nervosi. Il cervello analizza ed elabora i segnali ricevuti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2411280" y="0"/>
            <a:ext cx="4681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L’orecchio: l’udi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914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Come funzion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/>
          <p:nvPr/>
        </p:nvSpPr>
        <p:spPr>
          <a:xfrm>
            <a:off x="3276720" y="9810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743200" y="205740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6" dur="indefinite" restart="never" nodeType="tmRoot">
          <p:childTnLst>
            <p:seq>
              <p:cTn id="367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368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71" dur="1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610160" y="406440"/>
            <a:ext cx="4533840" cy="64515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258920" y="2060640"/>
            <a:ext cx="302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percezione degli odori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cioè il senso dell'olfatto) è affidata a un gruppo di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chemorecettori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 cellule olfattive, situate nel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a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/>
          <p:nvPr/>
        </p:nvSpPr>
        <p:spPr>
          <a:xfrm>
            <a:off x="2411280" y="0"/>
            <a:ext cx="4681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l naso: l’olfat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411280" y="0"/>
            <a:ext cx="4681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La lingue: il gus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/>
          <p:nvPr/>
        </p:nvSpPr>
        <p:spPr>
          <a:xfrm>
            <a:off x="1116000" y="1628640"/>
            <a:ext cx="3456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l naso è l'organo dell'olfatto. Nella parte superiore della cavità nasale si trova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l'epitelio olfattiv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formato da cellule olfattive che terminano con 10-20 ciglia libere e immerse in uno strato di muc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716360" y="1628640"/>
            <a:ext cx="3484800" cy="386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889440" y="2133720"/>
            <a:ext cx="5254560" cy="4724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411280" y="0"/>
            <a:ext cx="4681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Gli Organi di Sens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1989000"/>
            <a:ext cx="525636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Ogni ricettore è in grado di rispondere ad un solo stimolo per il quale è specializzat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Comic Sans MS"/>
              </a:rPr>
              <a:t>Fotoricettori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, specializzati per gli </a:t>
            </a: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stimoli luminosi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it-IT" sz="2400" spc="-1" strike="noStrike">
                <a:solidFill>
                  <a:srgbClr val="0000ff"/>
                </a:solidFill>
                <a:latin typeface="Comic Sans MS"/>
              </a:rPr>
              <a:t>chemorecettori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, per gli </a:t>
            </a: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stimoli gustativi e olfattivi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it-IT" sz="2400" spc="-1" strike="noStrike">
                <a:solidFill>
                  <a:srgbClr val="0000ff"/>
                </a:solidFill>
                <a:latin typeface="Comic Sans MS"/>
              </a:rPr>
              <a:t>meccanoricettori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per gli </a:t>
            </a: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stimoli meccanici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e </a:t>
            </a:r>
            <a:r>
              <a:rPr b="0" lang="it-IT" sz="2400" spc="-1" strike="noStrike">
                <a:solidFill>
                  <a:srgbClr val="0000ff"/>
                </a:solidFill>
                <a:latin typeface="Comic Sans MS"/>
              </a:rPr>
              <a:t>termoricettori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per il </a:t>
            </a: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caldo e il fredd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"/>
          <p:cNvSpPr/>
          <p:nvPr/>
        </p:nvSpPr>
        <p:spPr>
          <a:xfrm>
            <a:off x="4921920" y="6165720"/>
            <a:ext cx="3411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Le ventose del polpo son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ivestite di numerosi chemorecettor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411280" y="0"/>
            <a:ext cx="4681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l naso: l’olfat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/>
          <p:nvPr/>
        </p:nvSpPr>
        <p:spPr>
          <a:xfrm>
            <a:off x="971640" y="1773360"/>
            <a:ext cx="374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 molecole odorose si sciolgono nello strato di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muc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 vengono a contatto con i recettori olfattivi che inviano, attraverso il nervo olfattivo, le informazioni al cervello che le  legge e interpre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219640" y="1628640"/>
            <a:ext cx="3143160" cy="397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0"/>
            <a:ext cx="914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Come funzion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/>
          <p:nvPr/>
        </p:nvSpPr>
        <p:spPr>
          <a:xfrm>
            <a:off x="3276720" y="9810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743200" y="205740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9" dur="indefinite" restart="never" nodeType="tmRoot">
          <p:childTnLst>
            <p:seq>
              <p:cTn id="400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401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04" dur="1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411280" y="0"/>
            <a:ext cx="4681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La lingua: il gus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/>
          <p:nvPr/>
        </p:nvSpPr>
        <p:spPr>
          <a:xfrm>
            <a:off x="971640" y="1773360"/>
            <a:ext cx="468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percezione dei sapori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è affidata all'organo del gusto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mato da speciali chemorecettori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cellule gustativ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ggruppate in particolari protuberanze della lingua, le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papille gustative.</a:t>
            </a:r>
            <a:r>
              <a:rPr b="0" lang="en-US" sz="2400" spc="-1" strike="noStrike" u="sng">
                <a:solidFill>
                  <a:srgbClr val="a50021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702400" y="1778040"/>
            <a:ext cx="3441600" cy="507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411280" y="0"/>
            <a:ext cx="4681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La lingua: il gus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1116000" y="1989000"/>
            <a:ext cx="316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 papille rendono la lingua ruvida al tatto e sono collegate tramite i nervi al cervello, al quale inviano le informazioni ricevute sul cibo che stiamo mangiand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932360" y="1916280"/>
            <a:ext cx="3592440" cy="37242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356440" y="5735520"/>
            <a:ext cx="28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Papille della lingua al microscopio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411280" y="0"/>
            <a:ext cx="4681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La lingua: il gus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755640" y="1628640"/>
            <a:ext cx="4105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possono classificare differenti tipi di papille gustative, distribuite in modo diseguale lungo la superficie della lingua, che rispondono con maggiore o minore intensità ai diversi stimoli; ci sono dunque zone della lingua che sono più sensibili a un determinato gusto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859280" y="1557360"/>
            <a:ext cx="3960720" cy="387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411280" y="0"/>
            <a:ext cx="4681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La lingua: il gus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700360" y="1341360"/>
            <a:ext cx="4075200" cy="50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3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0"/>
            <a:ext cx="914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Come funzion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9810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743200" y="205740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9" dur="indefinite" restart="never" nodeType="tmRoot">
          <p:childTnLst>
            <p:seq>
              <p:cTn id="440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441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4" dur="1" fill="hold"/>
                                        <p:tgtEl>
                                          <p:spTgt spid="2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680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411280" y="0"/>
            <a:ext cx="4681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La pelle: il tat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755640" y="1628640"/>
            <a:ext cx="3745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sensibilità tattile, termica e dolorifica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è affidata a particolari recettori cutanei, distribuiti nella pelle delle varie parti del corpo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411280" y="0"/>
            <a:ext cx="4681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La pelle: il tat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395280" y="1268280"/>
            <a:ext cx="446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Nell'uomo i recettori tattili (corpuscoli di </a:t>
            </a:r>
            <a:r>
              <a:rPr b="0" lang="it-IT" sz="2400" spc="-1" strike="noStrike">
                <a:solidFill>
                  <a:srgbClr val="a50021"/>
                </a:solidFill>
                <a:latin typeface="Comic Sans MS"/>
              </a:rPr>
              <a:t>Meissner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e di </a:t>
            </a:r>
            <a:r>
              <a:rPr b="0" lang="it-IT" sz="2400" spc="-1" strike="noStrike">
                <a:solidFill>
                  <a:srgbClr val="a50021"/>
                </a:solidFill>
                <a:latin typeface="Comic Sans MS"/>
              </a:rPr>
              <a:t>Merkel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) sono presenti in gran numero nelle dita e nelle labbra, mentre sono relativamente rari nel tronco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"/>
          <p:cNvSpPr/>
          <p:nvPr/>
        </p:nvSpPr>
        <p:spPr>
          <a:xfrm>
            <a:off x="4680000" y="4365720"/>
            <a:ext cx="446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 fibre sensoriali portano ai centri nervosi gli impulsi dei recettori tattili e pressori che poi arriveranno fino al cervello per la loro interpretazion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"/>
          <p:cNvSpPr/>
          <p:nvPr/>
        </p:nvSpPr>
        <p:spPr>
          <a:xfrm>
            <a:off x="2411280" y="0"/>
            <a:ext cx="4681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La pelle: il tat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"/>
          <p:cNvSpPr/>
          <p:nvPr/>
        </p:nvSpPr>
        <p:spPr>
          <a:xfrm>
            <a:off x="395280" y="1268280"/>
            <a:ext cx="446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Nell'uomo i recettori tattili (corpuscoli di </a:t>
            </a:r>
            <a:r>
              <a:rPr b="0" lang="it-IT" sz="2400" spc="-1" strike="noStrike">
                <a:solidFill>
                  <a:srgbClr val="a50021"/>
                </a:solidFill>
                <a:latin typeface="Comic Sans MS"/>
              </a:rPr>
              <a:t>Meissner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e di </a:t>
            </a:r>
            <a:r>
              <a:rPr b="0" lang="it-IT" sz="2400" spc="-1" strike="noStrike">
                <a:solidFill>
                  <a:srgbClr val="a50021"/>
                </a:solidFill>
                <a:latin typeface="Comic Sans MS"/>
              </a:rPr>
              <a:t>Merkel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) sono presenti in gran numero nelle dita e nelle labbra, mentre sono relativamente rari nel tronco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14130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’illusione ottica è una qualsiasi illusione che inganna l'apparato visivo umano, facendogli percepire qualcosa che non è presente o facendogli percepire in modo scorretto qualcosa che nella realtà si presenta diversamente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189000"/>
            <a:ext cx="18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Append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411280" y="3213000"/>
            <a:ext cx="4248360" cy="32353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0" y="476280"/>
            <a:ext cx="914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Le illusioni ottich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411280" y="0"/>
            <a:ext cx="4681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Gli Organi di Sens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1989000"/>
            <a:ext cx="38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nostri sensi sono cinqu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"/>
          <p:cNvSpPr/>
          <p:nvPr/>
        </p:nvSpPr>
        <p:spPr>
          <a:xfrm>
            <a:off x="900000" y="270828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La Vis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314172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L’Olfat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"/>
          <p:cNvSpPr/>
          <p:nvPr/>
        </p:nvSpPr>
        <p:spPr>
          <a:xfrm>
            <a:off x="1476360" y="450864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L’Udi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"/>
          <p:cNvSpPr/>
          <p:nvPr/>
        </p:nvSpPr>
        <p:spPr>
          <a:xfrm>
            <a:off x="4500720" y="4869000"/>
            <a:ext cx="16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Il Gus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6300720" y="378936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Il Tat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667640" y="371628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796000" y="4797360"/>
            <a:ext cx="723960" cy="714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5076720" y="2924280"/>
            <a:ext cx="71460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2700360" y="4365720"/>
            <a:ext cx="714240" cy="723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2268360" y="2852640"/>
            <a:ext cx="714600" cy="72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0" y="141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 linee grigie dell’immagine sono parallele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189000"/>
            <a:ext cx="18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Append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619280" y="2276640"/>
            <a:ext cx="5715000" cy="38764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0" y="476280"/>
            <a:ext cx="914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Le illusioni ottich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1413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no parallele. La sfasatura dei quadrati nell'immagine ci dà una sensazione di irregolarità delle line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189000"/>
            <a:ext cx="18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Append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4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619280" y="2276640"/>
            <a:ext cx="5715000" cy="38764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0" y="476280"/>
            <a:ext cx="914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Le illusioni ottich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050920" y="476280"/>
            <a:ext cx="4681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Le illusioni ottich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141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ale dei cerchi arancione è più grande?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189000"/>
            <a:ext cx="18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Append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619280" y="227808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0" y="141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utti e tre i cerchi hanno lo stesso diametro!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189000"/>
            <a:ext cx="18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Append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2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619280" y="2276640"/>
            <a:ext cx="5715000" cy="380988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0" y="476280"/>
            <a:ext cx="914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Le illusioni ottich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476280"/>
            <a:ext cx="914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Le illusioni ottich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41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 cubo impossibi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189000"/>
            <a:ext cx="18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Append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2843280" y="2205000"/>
            <a:ext cx="3589200" cy="403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476280"/>
            <a:ext cx="914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Le illusioni ottich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141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ale dei due segmenti arancioni è più lungo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189000"/>
            <a:ext cx="18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Append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5715000" cy="429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476280"/>
            <a:ext cx="914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Le illusioni ottich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141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al è il prolungamento del segmento Z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189000"/>
            <a:ext cx="18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Append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763640" y="2133720"/>
            <a:ext cx="5715000" cy="391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476280"/>
            <a:ext cx="914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Le illusioni ottich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189000"/>
            <a:ext cx="18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Append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8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763640" y="2133720"/>
            <a:ext cx="5715000" cy="391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476280"/>
            <a:ext cx="914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Le illusioni ottich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141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ecchia o giovane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189000"/>
            <a:ext cx="18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Append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2771640" y="2349360"/>
            <a:ext cx="361152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476280"/>
            <a:ext cx="914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Le illusioni ottich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141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ziani o messicani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189000"/>
            <a:ext cx="18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Append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763640" y="2060640"/>
            <a:ext cx="5484960" cy="427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258920" y="2205000"/>
            <a:ext cx="6350040" cy="39369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411280" y="0"/>
            <a:ext cx="4681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L’occhio: la vis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1773360"/>
            <a:ext cx="69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vista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è affidata agli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cch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che sono alloggiati nelle orbite del crani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"/>
          <p:cNvSpPr/>
          <p:nvPr/>
        </p:nvSpPr>
        <p:spPr>
          <a:xfrm>
            <a:off x="1042920" y="544500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ll'occhio si distinguono il </a:t>
            </a:r>
            <a:r>
              <a:rPr b="0" i="1" lang="en-US" sz="2400" spc="-1" strike="noStrike">
                <a:solidFill>
                  <a:srgbClr val="a50021"/>
                </a:solidFill>
                <a:latin typeface="Comic Sans MS"/>
              </a:rPr>
              <a:t>bulbo oculare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l vero e proprio organo di senso, e alcuni </a:t>
            </a:r>
            <a:r>
              <a:rPr b="0" i="1" lang="en-US" sz="2400" spc="-1" strike="noStrike">
                <a:solidFill>
                  <a:srgbClr val="a50021"/>
                </a:solidFill>
                <a:latin typeface="Comic Sans MS"/>
              </a:rPr>
              <a:t>organi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a50021"/>
                </a:solidFill>
                <a:latin typeface="Comic Sans MS"/>
              </a:rPr>
              <a:t>accessori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 funzione protettiv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476280"/>
            <a:ext cx="914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Le illusioni ottich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1413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 guardi con attenzione l'immagine avrai l'illusione di percepire all'interno dei cerchi bianchi dei punti più scuri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189000"/>
            <a:ext cx="18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Append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2195640" y="2492280"/>
            <a:ext cx="472428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0" y="476280"/>
            <a:ext cx="914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Le illusioni ottich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1413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ssa l'immagine centrale e muovi la testa avanti e indietro. Avrai la sensazione che i cerchi siano in movimento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189000"/>
            <a:ext cx="18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Append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2411280" y="2349360"/>
            <a:ext cx="4159440" cy="414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2411280" y="2492280"/>
            <a:ext cx="4681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Fi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39640" y="1989000"/>
            <a:ext cx="4753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 </a:t>
            </a:r>
            <a:r>
              <a:rPr b="0" i="1" lang="en-US" sz="2400" spc="-1" strike="noStrike">
                <a:solidFill>
                  <a:srgbClr val="a50021"/>
                </a:solidFill>
                <a:latin typeface="Comic Sans MS"/>
              </a:rPr>
              <a:t>palpeb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ono due sottili pieghe della pelle rivestite internamente da una membrana, la </a:t>
            </a:r>
            <a:r>
              <a:rPr b="0" i="1" lang="en-US" sz="2400" spc="-1" strike="noStrike">
                <a:solidFill>
                  <a:srgbClr val="a50021"/>
                </a:solidFill>
                <a:latin typeface="Comic Sans MS"/>
              </a:rPr>
              <a:t>congiuntiva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se proteggono gli occhi dalla luce troppo intensa e con il loro battito distendono il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liquido lacrimale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dotto dalle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ghiandole lacrimali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e li mantiene umidi e puliti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"/>
          <p:cNvSpPr/>
          <p:nvPr/>
        </p:nvSpPr>
        <p:spPr>
          <a:xfrm>
            <a:off x="2411280" y="0"/>
            <a:ext cx="4681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L’occhio: la vis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112536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Gli Organi Accessor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508720" y="2133720"/>
            <a:ext cx="3419280" cy="334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39640" y="2884320"/>
            <a:ext cx="475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ciglia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no i peli allineati lungo il margine libero delle palpebre e servono a filtrare la luce e a trattenere la polver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"/>
          <p:cNvSpPr/>
          <p:nvPr/>
        </p:nvSpPr>
        <p:spPr>
          <a:xfrm>
            <a:off x="2411280" y="0"/>
            <a:ext cx="4681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L’occhio: la vis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"/>
          <p:cNvSpPr/>
          <p:nvPr/>
        </p:nvSpPr>
        <p:spPr>
          <a:xfrm>
            <a:off x="539640" y="112536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Gli Organi Accessor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133720"/>
            <a:ext cx="3419280" cy="334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539640" y="2658960"/>
            <a:ext cx="475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sopracciglia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no i peli disposti lungo l'orlo superiore dell'orbita e servono a impedire che il sudore della fronte penetri nell'occhio e produca irritazion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"/>
          <p:cNvSpPr/>
          <p:nvPr/>
        </p:nvSpPr>
        <p:spPr>
          <a:xfrm>
            <a:off x="2411280" y="0"/>
            <a:ext cx="4681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L’occhio: la vis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"/>
          <p:cNvSpPr/>
          <p:nvPr/>
        </p:nvSpPr>
        <p:spPr>
          <a:xfrm>
            <a:off x="539640" y="112536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Gli Organi Accessor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508720" y="2133720"/>
            <a:ext cx="3419280" cy="334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4610160" cy="2870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427640" y="2276640"/>
            <a:ext cx="421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l bulbo oculare ha la forma di una sfera con il diametro di circa 2,5 cm. Si muove in tutte le direzioni grazie a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sei muscoli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eriti sulla sua superfic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"/>
          <p:cNvSpPr/>
          <p:nvPr/>
        </p:nvSpPr>
        <p:spPr>
          <a:xfrm>
            <a:off x="2411280" y="0"/>
            <a:ext cx="4681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L’occhio: la vis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"/>
          <p:cNvSpPr/>
          <p:nvPr/>
        </p:nvSpPr>
        <p:spPr>
          <a:xfrm>
            <a:off x="539640" y="112536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Il Bulbo Ocula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2T03:28:53Z</dcterms:created>
  <dc:creator>amedeo</dc:creator>
  <dc:description/>
  <dc:language>en-US</dc:language>
  <cp:lastModifiedBy>amedeo</cp:lastModifiedBy>
  <dcterms:modified xsi:type="dcterms:W3CDTF">2012-05-29T03:10:59Z</dcterms:modified>
  <cp:revision>338</cp:revision>
  <dc:subject/>
  <dc:title>L’ambiente e l’ecologia</dc:title>
</cp:coreProperties>
</file>