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6.gif" ContentType="image/gif"/>
  <Override PartName="/ppt/media/image15.jpeg" ContentType="image/jpeg"/>
  <Override PartName="/ppt/media/image25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2F36-9E8C-4E4A-880C-D5629DE3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18F9-403C-4C87-A320-B639D2B3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A25C-F15E-49EA-955E-8571A28C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1251-CDBE-4845-A22A-B0C22D7B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4174-17E1-4AF7-9342-BBFE91E6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3C37-5FA4-4A90-9AAD-7EC2877C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4195-9534-4728-B91B-87A8556C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F5A4-D904-407B-A9E5-6536F55B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D727-61BD-43CE-99F8-5F480CC7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78BD-04C2-4BA7-AE0F-28F824F4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B51F-0F8C-4AD7-8E13-E2F9770D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C97A-FD97-491A-923D-29AEFDBC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2941-D513-4ADB-9400-8AC89F43A275}" type="slidenum"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diatomea"/>
          <p:cNvPicPr/>
          <p:nvPr/>
        </p:nvPicPr>
        <p:blipFill>
          <a:blip r:embed="rId1"/>
          <a:stretch/>
        </p:blipFill>
        <p:spPr>
          <a:xfrm>
            <a:off x="2124000" y="907920"/>
            <a:ext cx="6053040" cy="5700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1915920"/>
            <a:ext cx="4606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La cellu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plantcell"/>
          <p:cNvPicPr/>
          <p:nvPr/>
        </p:nvPicPr>
        <p:blipFill>
          <a:blip r:embed="rId1"/>
          <a:stretch/>
        </p:blipFill>
        <p:spPr>
          <a:xfrm>
            <a:off x="5364000" y="2205000"/>
            <a:ext cx="3429000" cy="28576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L’aspetto delle cell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900000" y="1844640"/>
            <a:ext cx="453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a maggior parte delle cellule vegetali ha solitamente forma poliedrica, con un diametro compreso tra i 20 e i 30 micrometri, ed è delimitata da pareti cellulari rigid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L’aspetto delle cell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7" descr="AnimalCellColor"/>
          <p:cNvPicPr/>
          <p:nvPr/>
        </p:nvPicPr>
        <p:blipFill>
          <a:blip r:embed="rId1"/>
          <a:stretch/>
        </p:blipFill>
        <p:spPr>
          <a:xfrm>
            <a:off x="4838760" y="1700280"/>
            <a:ext cx="4305240" cy="4276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684360" y="1628640"/>
            <a:ext cx="4535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e cellule dei tessuti animali hanno forma estremamente varia, a seconda del tipo e della funzione. Il loro diametro è spesso compreso fra i 10 e i 20 micrometri e la loro superficie è deformabile, spesso ricca di estroflession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L’aspetto delle cell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684360" y="1628640"/>
            <a:ext cx="4535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onostante le numerose differenze di aspetto e di funzione, tutte le cellule sono delimitate da una membrana che racchiude il citoplasma, una sostanza fluida, ricca di acqua.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8" descr="Cellula_acqua_kangen"/>
          <p:cNvPicPr/>
          <p:nvPr/>
        </p:nvPicPr>
        <p:blipFill>
          <a:blip r:embed="rId1"/>
          <a:stretch/>
        </p:blipFill>
        <p:spPr>
          <a:xfrm>
            <a:off x="5364000" y="198900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vegetal-cell-cellula-vegetale[1]"/>
          <p:cNvPicPr/>
          <p:nvPr/>
        </p:nvPicPr>
        <p:blipFill>
          <a:blip r:embed="rId1"/>
          <a:stretch/>
        </p:blipFill>
        <p:spPr>
          <a:xfrm>
            <a:off x="2268360" y="3962520"/>
            <a:ext cx="4432320" cy="28954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L’aspetto delle cell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11280" y="1413000"/>
            <a:ext cx="806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utte le cellule sono sede di reazioni chimiche che consentono loro di svilupparsi, di produrre energia e di eliminare le scorie. Nel loro insieme, tutte queste reazioni sono denominate </a:t>
            </a:r>
            <a:r>
              <a:rPr b="0" lang="it-IT" sz="2800" spc="-1" strike="noStrike">
                <a:solidFill>
                  <a:srgbClr val="ff3300"/>
                </a:solidFill>
                <a:latin typeface="Comic Sans MS"/>
              </a:rPr>
              <a:t>metabolism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(termine derivante da una parola greca che significa "cambiamento").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procar_eucar"/>
          <p:cNvPicPr/>
          <p:nvPr/>
        </p:nvPicPr>
        <p:blipFill>
          <a:blip r:embed="rId1"/>
          <a:stretch/>
        </p:blipFill>
        <p:spPr>
          <a:xfrm>
            <a:off x="5076720" y="1700280"/>
            <a:ext cx="4067280" cy="38512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Procarioti ed Eucariot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539640" y="1413000"/>
            <a:ext cx="489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e cellule, in base alla loro organizzazione interna, possono essere distinte in due grandi categorie: cellule procarioti e cellule eucarioti. Il termine procariote deriva dal greco e significa "prima del nucleo"; il termine eucariote significa "vero nucleo"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batterio"/>
          <p:cNvPicPr/>
          <p:nvPr/>
        </p:nvPicPr>
        <p:blipFill>
          <a:blip r:embed="rId1"/>
          <a:stretch/>
        </p:blipFill>
        <p:spPr>
          <a:xfrm>
            <a:off x="2700360" y="3716280"/>
            <a:ext cx="3762360" cy="26956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Cellule procariot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39640" y="1700280"/>
            <a:ext cx="80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ono cellule “primitive”, prive di un nucleo ben definito e delimitate da una membrana cellulare, con una struttura interna molto semplice. Tipiche cellule procariote sono quelle dei batteri e delle alghe azzurr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Cellule eucariot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39640" y="1700280"/>
            <a:ext cx="80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ono le cellule più evolute, tipiche dei protisti, dei funghi, degli animali, dei vegetali; il nucleo è ben definito e circondato da una membrana nucleare mentre il citoplasma è ricco di numerose struttur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7" descr="cellula_eucariote"/>
          <p:cNvPicPr/>
          <p:nvPr/>
        </p:nvPicPr>
        <p:blipFill>
          <a:blip r:embed="rId1"/>
          <a:stretch/>
        </p:blipFill>
        <p:spPr>
          <a:xfrm>
            <a:off x="3348000" y="4149720"/>
            <a:ext cx="2540160" cy="2235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La cellula vegeta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vegetale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28799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0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La cellula vegeta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7" descr="cellula_vegetale"/>
          <p:cNvPicPr/>
          <p:nvPr/>
        </p:nvPicPr>
        <p:blipFill>
          <a:blip r:embed="rId1"/>
          <a:stretch/>
        </p:blipFill>
        <p:spPr>
          <a:xfrm>
            <a:off x="1908000" y="1125360"/>
            <a:ext cx="5472360" cy="5078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La cellula anima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animale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21064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1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La cellu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9" descr="cellula011"/>
          <p:cNvPicPr/>
          <p:nvPr/>
        </p:nvPicPr>
        <p:blipFill>
          <a:blip r:embed="rId1"/>
          <a:stretch/>
        </p:blipFill>
        <p:spPr>
          <a:xfrm>
            <a:off x="4859280" y="1989000"/>
            <a:ext cx="3246480" cy="2971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1044720" y="2070000"/>
            <a:ext cx="475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a cellula è la più piccola unità di un organismo in grado di funzionare in modo autonom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Tutti gli esseri viventi sono formati da cellul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La cellula anima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8" descr="cellulaanimale2"/>
          <p:cNvPicPr/>
          <p:nvPr/>
        </p:nvPicPr>
        <p:blipFill>
          <a:blip r:embed="rId1"/>
          <a:stretch/>
        </p:blipFill>
        <p:spPr>
          <a:xfrm>
            <a:off x="611280" y="1628640"/>
            <a:ext cx="7875360" cy="430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La membrana plasmat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39640" y="1700280"/>
            <a:ext cx="453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a membrana plasmatica racchiude il contenuto della cellula e costituisce una barriera fra l'ambiente intracellulare (ambiente interno) e quello extracellulare (ambiente esterno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8" descr="cellulona"/>
          <p:cNvPicPr/>
          <p:nvPr/>
        </p:nvPicPr>
        <p:blipFill>
          <a:blip r:embed="rId1"/>
          <a:stretch/>
        </p:blipFill>
        <p:spPr>
          <a:xfrm>
            <a:off x="5796000" y="1916280"/>
            <a:ext cx="2886120" cy="33429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4711680" y="547056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Comic Sans MS"/>
              </a:rPr>
              <a:t>Membrana plasmatic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10"/>
          <p:cNvSpPr/>
          <p:nvPr/>
        </p:nvSpPr>
        <p:spPr>
          <a:xfrm flipV="1">
            <a:off x="6012000" y="4723920"/>
            <a:ext cx="647640" cy="79236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11" descr="cellulona"/>
          <p:cNvPicPr/>
          <p:nvPr/>
        </p:nvPicPr>
        <p:blipFill>
          <a:blip r:embed="rId2"/>
          <a:stretch/>
        </p:blipFill>
        <p:spPr>
          <a:xfrm>
            <a:off x="5796000" y="1916280"/>
            <a:ext cx="2886120" cy="3342960"/>
          </a:xfrm>
          <a:prstGeom prst="rect">
            <a:avLst/>
          </a:prstGeom>
          <a:ln w="0">
            <a:noFill/>
          </a:ln>
        </p:spPr>
      </p:pic>
      <p:sp>
        <p:nvSpPr>
          <p:cNvPr id="104" name="Line 12"/>
          <p:cNvSpPr/>
          <p:nvPr/>
        </p:nvSpPr>
        <p:spPr>
          <a:xfrm flipV="1">
            <a:off x="6012000" y="4723920"/>
            <a:ext cx="647640" cy="79236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La parete cellul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6" descr="plantcell"/>
          <p:cNvPicPr/>
          <p:nvPr/>
        </p:nvPicPr>
        <p:blipFill>
          <a:blip r:embed="rId1"/>
          <a:stretch/>
        </p:blipFill>
        <p:spPr>
          <a:xfrm>
            <a:off x="5715000" y="2421000"/>
            <a:ext cx="3429000" cy="28573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324000" y="1557360"/>
            <a:ext cx="5903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i batteri e nei vegetali, all'esterno della membrana si trova una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arete cellula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rigida, alquanto spessa e robusta. Tale struttura nei batteri ha soprattutto una funzione protettiva; nei vegetali, oltre a questa funzione, la parete svolge un ruolo di sostegno e serve a mantenere la forma tipica della cellula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7371720" y="141912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Comic Sans MS"/>
              </a:rPr>
              <a:t>Parete</a:t>
            </a:r>
            <a:br>
              <a:rPr sz="1800"/>
            </a:br>
            <a:r>
              <a:rPr b="0" lang="it-IT" sz="1800" spc="-1" strike="noStrike">
                <a:solidFill>
                  <a:srgbClr val="a50021"/>
                </a:solidFill>
                <a:latin typeface="Comic Sans MS"/>
              </a:rPr>
              <a:t>cellula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8"/>
          <p:cNvSpPr/>
          <p:nvPr/>
        </p:nvSpPr>
        <p:spPr>
          <a:xfrm flipH="1">
            <a:off x="6732720" y="1989000"/>
            <a:ext cx="1008000" cy="64800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Citoplas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39640" y="1700280"/>
            <a:ext cx="540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'intero volume della cellula, con esclusione del nucleo, è occupato dal citoplasma. Questo comprende una soluzione acquosa concentrata, denominata citosol, nella quale si trovano sospesi enzimi e gli organuli cellulari. Nel citoplasma avvengono le reazioni chimiche principal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557040" y="57340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Comic Sans MS"/>
              </a:rPr>
              <a:t>Citoplas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3" name="Picture 7" descr="cellulona"/>
          <p:cNvPicPr/>
          <p:nvPr/>
        </p:nvPicPr>
        <p:blipFill>
          <a:blip r:embed="rId1"/>
          <a:stretch/>
        </p:blipFill>
        <p:spPr>
          <a:xfrm>
            <a:off x="5796000" y="1916280"/>
            <a:ext cx="2886120" cy="3342960"/>
          </a:xfrm>
          <a:prstGeom prst="rect">
            <a:avLst/>
          </a:prstGeom>
          <a:ln w="0">
            <a:noFill/>
          </a:ln>
        </p:spPr>
      </p:pic>
      <p:sp>
        <p:nvSpPr>
          <p:cNvPr id="114" name="Line 8"/>
          <p:cNvSpPr/>
          <p:nvPr/>
        </p:nvSpPr>
        <p:spPr>
          <a:xfrm flipH="1" flipV="1">
            <a:off x="6084360" y="3933360"/>
            <a:ext cx="1008360" cy="187164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Nucle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39640" y="1268280"/>
            <a:ext cx="518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'organulo di maggiori dimensioni all'interno della maggior parte delle cellule vegetali e animali è il nucleo: è delimitato da una membrana e ha forma e dimensioni variabili a seconda del tipo cellulare. All'interno del nucleo si trovano il DNA, che costituisce il materiale genetico della cellul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7289640" y="112536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Comic Sans MS"/>
              </a:rPr>
              <a:t>Nucle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" name="Picture 7" descr="cellulona"/>
          <p:cNvPicPr/>
          <p:nvPr/>
        </p:nvPicPr>
        <p:blipFill>
          <a:blip r:embed="rId1"/>
          <a:stretch/>
        </p:blipFill>
        <p:spPr>
          <a:xfrm>
            <a:off x="5796000" y="1916280"/>
            <a:ext cx="2886120" cy="3342960"/>
          </a:xfrm>
          <a:prstGeom prst="rect">
            <a:avLst/>
          </a:prstGeom>
          <a:ln w="0">
            <a:noFill/>
          </a:ln>
        </p:spPr>
      </p:pic>
      <p:sp>
        <p:nvSpPr>
          <p:cNvPr id="119" name="Line 8"/>
          <p:cNvSpPr/>
          <p:nvPr/>
        </p:nvSpPr>
        <p:spPr>
          <a:xfrm flipH="1">
            <a:off x="7164000" y="1484280"/>
            <a:ext cx="576360" cy="187344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Mitocond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39640" y="1700280"/>
            <a:ext cx="475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 mitocondri costituiscono la sede del processo di respirazione cellulare, mediante il quale la cellula ricava energia bruciando molecole di glucosio, derivanti dalla demolizione delle sostanze nutritive, in presenza di ossigeno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583320" y="5734080"/>
            <a:ext cx="13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Comic Sans MS"/>
              </a:rPr>
              <a:t>Mitocondr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Picture 7" descr="cellulona"/>
          <p:cNvPicPr/>
          <p:nvPr/>
        </p:nvPicPr>
        <p:blipFill>
          <a:blip r:embed="rId1"/>
          <a:stretch/>
        </p:blipFill>
        <p:spPr>
          <a:xfrm>
            <a:off x="5796000" y="1916280"/>
            <a:ext cx="2886120" cy="3342960"/>
          </a:xfrm>
          <a:prstGeom prst="rect">
            <a:avLst/>
          </a:prstGeom>
          <a:ln w="0">
            <a:noFill/>
          </a:ln>
        </p:spPr>
      </p:pic>
      <p:sp>
        <p:nvSpPr>
          <p:cNvPr id="124" name="Line 8"/>
          <p:cNvSpPr/>
          <p:nvPr/>
        </p:nvSpPr>
        <p:spPr>
          <a:xfrm flipV="1">
            <a:off x="7093080" y="4508640"/>
            <a:ext cx="718920" cy="129672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Line 9"/>
          <p:cNvSpPr/>
          <p:nvPr/>
        </p:nvSpPr>
        <p:spPr>
          <a:xfrm flipH="1" flipV="1">
            <a:off x="6516360" y="4508640"/>
            <a:ext cx="576360" cy="129672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reticolo endoplasmatico2"/>
          <p:cNvPicPr/>
          <p:nvPr/>
        </p:nvPicPr>
        <p:blipFill>
          <a:blip r:embed="rId1"/>
          <a:stretch/>
        </p:blipFill>
        <p:spPr>
          <a:xfrm>
            <a:off x="250920" y="1844640"/>
            <a:ext cx="4321080" cy="26496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Ribosom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500720" y="1700280"/>
            <a:ext cx="4392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 ribosomi rappresentano la sede della sintesi delle proteine. Sono formati da due subunità di un particolare tipo di RNA e possono essere associate alle membrane del reticolo endoplasmatico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Reticolo endoplasmati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Picture 6" descr="reticolo endoplasmatico2"/>
          <p:cNvPicPr/>
          <p:nvPr/>
        </p:nvPicPr>
        <p:blipFill>
          <a:blip r:embed="rId1"/>
          <a:stretch/>
        </p:blipFill>
        <p:spPr>
          <a:xfrm>
            <a:off x="250920" y="1844640"/>
            <a:ext cx="4321080" cy="2649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3851280" y="1413000"/>
            <a:ext cx="5005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a rete tridimensionale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i sacche, dette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isterne, comunicanti tra loro, costituisce il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reticolo endoplasmatico,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he rappresenta il compartimento cellulare dove avviene la sintesi di gran parte dei componenti della cellula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Apparato di Golg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39640" y="1700280"/>
            <a:ext cx="4680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ile di cisterne appiattite, anch'esse delimitate da membrane, costituiscono, invece, l’apparato di Golgi, che riceve le molecole sintetizzate nel reticolo endoplasmatico, le elabora e le indirizza a diversi siti interni o esterni alla cellula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586560" y="57340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Comic Sans MS"/>
              </a:rPr>
              <a:t>Apparato di</a:t>
            </a:r>
            <a:br>
              <a:rPr sz="1800"/>
            </a:br>
            <a:r>
              <a:rPr b="0" lang="it-IT" sz="1800" spc="-1" strike="noStrike">
                <a:solidFill>
                  <a:srgbClr val="a50021"/>
                </a:solidFill>
                <a:latin typeface="Comic Sans MS"/>
              </a:rPr>
              <a:t>Golg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5" name="Picture 7" descr="cellulona"/>
          <p:cNvPicPr/>
          <p:nvPr/>
        </p:nvPicPr>
        <p:blipFill>
          <a:blip r:embed="rId1"/>
          <a:stretch/>
        </p:blipFill>
        <p:spPr>
          <a:xfrm>
            <a:off x="5796000" y="1916280"/>
            <a:ext cx="2886120" cy="3342960"/>
          </a:xfrm>
          <a:prstGeom prst="rect">
            <a:avLst/>
          </a:prstGeom>
          <a:ln w="0">
            <a:noFill/>
          </a:ln>
        </p:spPr>
      </p:pic>
      <p:sp>
        <p:nvSpPr>
          <p:cNvPr id="136" name="Line 9"/>
          <p:cNvSpPr/>
          <p:nvPr/>
        </p:nvSpPr>
        <p:spPr>
          <a:xfrm flipV="1">
            <a:off x="7093080" y="4581360"/>
            <a:ext cx="71280" cy="122400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Lisosomi e vacuol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39640" y="1700280"/>
            <a:ext cx="44640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 lisosomi contengono enzimi responsabili della digestione di numerose molecole inutili o nocive per la cellula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 vacuoli sono piccole cavità delimitate da una membrana, nelle quali vengono accumulate scorie del metabolismo cellular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418160" y="119052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Comic Sans MS"/>
              </a:rPr>
              <a:t>Lisoso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" name="Picture 7" descr="cellulona"/>
          <p:cNvPicPr/>
          <p:nvPr/>
        </p:nvPicPr>
        <p:blipFill>
          <a:blip r:embed="rId1"/>
          <a:stretch/>
        </p:blipFill>
        <p:spPr>
          <a:xfrm>
            <a:off x="5796000" y="1916280"/>
            <a:ext cx="2886120" cy="3342960"/>
          </a:xfrm>
          <a:prstGeom prst="rect">
            <a:avLst/>
          </a:prstGeom>
          <a:ln w="0">
            <a:noFill/>
          </a:ln>
        </p:spPr>
      </p:pic>
      <p:sp>
        <p:nvSpPr>
          <p:cNvPr id="141" name="Line 8"/>
          <p:cNvSpPr/>
          <p:nvPr/>
        </p:nvSpPr>
        <p:spPr>
          <a:xfrm flipH="1">
            <a:off x="6443280" y="1557360"/>
            <a:ext cx="1513080" cy="144000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virus"/>
          <p:cNvPicPr/>
          <p:nvPr/>
        </p:nvPicPr>
        <p:blipFill>
          <a:blip r:embed="rId1"/>
          <a:stretch/>
        </p:blipFill>
        <p:spPr>
          <a:xfrm>
            <a:off x="5651640" y="1916280"/>
            <a:ext cx="3124080" cy="3429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La cellu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95280" y="1413000"/>
            <a:ext cx="5327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ebbene i virus siano in grado di effettuare molte delle funzioni normalmente espletate da una cellula vivente, essi mancano tuttavia della caratteristica capacità cellulare di sopravvivere, svilupparsi e replicarsi in modo autonomo e, pertanto, non vengono considerati esseri vivent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cloroplasta"/>
          <p:cNvPicPr/>
          <p:nvPr/>
        </p:nvPicPr>
        <p:blipFill>
          <a:blip r:embed="rId1"/>
          <a:stretch/>
        </p:blipFill>
        <p:spPr>
          <a:xfrm>
            <a:off x="5508720" y="1916280"/>
            <a:ext cx="3429000" cy="35431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Plastid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68360" y="1341360"/>
            <a:ext cx="53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 plastidi si possono considerare come sacche membranose, nelle quali la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ellula vegetal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può accumulare sostanze. 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loroplast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sono plastidi in cui avviene la fotosintesi clorofilliana, e contengono le molecole di clorofilla necessarie al processo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Vacuolo centra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4356000" y="1700280"/>
            <a:ext cx="460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 grosso vacuolo centrale, ossia una cavità delimitata da una membrana e piena di un liquido detto succo vacuolare, costituisce per la cellula vegetale una sorta di idroscheletro, e svolge anche funzioni metabolich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" name="Picture 6" descr="cellula_vegetale"/>
          <p:cNvPicPr/>
          <p:nvPr/>
        </p:nvPicPr>
        <p:blipFill>
          <a:blip r:embed="rId1"/>
          <a:stretch/>
        </p:blipFill>
        <p:spPr>
          <a:xfrm>
            <a:off x="0" y="1557360"/>
            <a:ext cx="4495680" cy="4172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Tessuti, organi, apparat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900000" y="1700280"/>
            <a:ext cx="489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gli organismi pluricellulari le cellule si coordinano e formano livelli di organizzazione superiori: 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tessut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sono caratterizzati da cellule specializzate a svolgere determinate funzioni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7" descr="epiteliale"/>
          <p:cNvPicPr/>
          <p:nvPr/>
        </p:nvPicPr>
        <p:blipFill>
          <a:blip r:embed="rId1"/>
          <a:stretch/>
        </p:blipFill>
        <p:spPr>
          <a:xfrm>
            <a:off x="6227640" y="220500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6864840" y="465300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Comic Sans MS"/>
              </a:rPr>
              <a:t>Tessuto</a:t>
            </a:r>
            <a:br>
              <a:rPr sz="1800"/>
            </a:br>
            <a:r>
              <a:rPr b="0" lang="it-IT" sz="1800" spc="-1" strike="noStrike">
                <a:solidFill>
                  <a:srgbClr val="a50021"/>
                </a:solidFill>
                <a:latin typeface="Comic Sans MS"/>
              </a:rPr>
              <a:t>epitelia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Tessuti, organi, apparat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908000" y="1773360"/>
            <a:ext cx="46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Gl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rgan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sono formati da più tessuti che effettuano anch'essi specifiche funzioni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6" descr="battito_cardiaco"/>
          <p:cNvPicPr/>
          <p:nvPr/>
        </p:nvPicPr>
        <p:blipFill>
          <a:blip r:embed="rId1"/>
          <a:stretch/>
        </p:blipFill>
        <p:spPr>
          <a:xfrm>
            <a:off x="1619280" y="328464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250px-Blutkreislauf"/>
          <p:cNvPicPr/>
          <p:nvPr/>
        </p:nvPicPr>
        <p:blipFill>
          <a:blip r:embed="rId1"/>
          <a:stretch/>
        </p:blipFill>
        <p:spPr>
          <a:xfrm>
            <a:off x="4356000" y="981000"/>
            <a:ext cx="2909880" cy="51721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Tessuti, organi, apparat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124000" y="1341360"/>
            <a:ext cx="302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Gl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pparat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(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istem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,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ono costituiti da diversi organi che interagiscono per il compimento di funzioni superior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staminali"/>
          <p:cNvPicPr/>
          <p:nvPr/>
        </p:nvPicPr>
        <p:blipFill>
          <a:blip r:embed="rId1"/>
          <a:stretch/>
        </p:blipFill>
        <p:spPr>
          <a:xfrm>
            <a:off x="0" y="122076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Tessuti, organi, apparat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684360" y="162864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utti gli apparati costituiscono l’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rganism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457200" y="23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F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La cellu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cellula_tipo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3962160" cy="3047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64063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hooke"/>
          <p:cNvPicPr/>
          <p:nvPr/>
        </p:nvPicPr>
        <p:blipFill>
          <a:blip r:embed="rId1"/>
          <a:stretch/>
        </p:blipFill>
        <p:spPr>
          <a:xfrm>
            <a:off x="3220920" y="866880"/>
            <a:ext cx="5923080" cy="59911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La teoria cellul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95280" y="1413000"/>
            <a:ext cx="7201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e cellule furono osservate per la prima volta nel 1665 da Robert Hooke, che studiò con un microscopio rudimentale sottili fettine di sughero e vide che esse erano formate da elementi di forma regolare. Egli chiamò 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ellul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questi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lementi (dal latino </a:t>
            </a:r>
            <a:br>
              <a:rPr sz="2800"/>
            </a:b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cellul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"piccola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tanza"), perché esse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vevano l'aspetto di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iccole scatol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La teoria cellul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95280" y="1268280"/>
            <a:ext cx="712944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'insieme degli studi al microscopio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 le osservazioni di numerosi ricercatori permisero di arrivare alla moderna definizione della cosiddetta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teoria cellula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secondo la quale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utti i viventi sono formati da una o più cellule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e cellule costituiscono le unità fondamentali di ciascun organismo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utte le cellule derivano da altre cellul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7" descr="globuli-rossi"/>
          <p:cNvPicPr/>
          <p:nvPr/>
        </p:nvPicPr>
        <p:blipFill>
          <a:blip r:embed="rId1"/>
          <a:stretch/>
        </p:blipFill>
        <p:spPr>
          <a:xfrm>
            <a:off x="6948360" y="4292640"/>
            <a:ext cx="2195640" cy="184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neurone2"/>
          <p:cNvPicPr/>
          <p:nvPr/>
        </p:nvPicPr>
        <p:blipFill>
          <a:blip r:embed="rId2"/>
          <a:stretch/>
        </p:blipFill>
        <p:spPr>
          <a:xfrm>
            <a:off x="5327640" y="0"/>
            <a:ext cx="3816360" cy="1839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L’aspetto delle cell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95280" y="1413000"/>
            <a:ext cx="532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e cellule possono essere di dimensioni e forme molto diver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Picture 7" descr="globuli-rossi"/>
          <p:cNvPicPr/>
          <p:nvPr/>
        </p:nvPicPr>
        <p:blipFill>
          <a:blip r:embed="rId1"/>
          <a:stretch/>
        </p:blipFill>
        <p:spPr>
          <a:xfrm>
            <a:off x="6156360" y="1484280"/>
            <a:ext cx="1871640" cy="157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neurone2"/>
          <p:cNvPicPr/>
          <p:nvPr/>
        </p:nvPicPr>
        <p:blipFill>
          <a:blip r:embed="rId2"/>
          <a:stretch/>
        </p:blipFill>
        <p:spPr>
          <a:xfrm>
            <a:off x="468360" y="3357720"/>
            <a:ext cx="4505400" cy="2171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c90d0_fertilization2"/>
          <p:cNvPicPr/>
          <p:nvPr/>
        </p:nvPicPr>
        <p:blipFill>
          <a:blip r:embed="rId3"/>
          <a:stretch/>
        </p:blipFill>
        <p:spPr>
          <a:xfrm>
            <a:off x="5508720" y="3789360"/>
            <a:ext cx="2832120" cy="2197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L’aspetto delle cell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492360" y="1860480"/>
            <a:ext cx="36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e cellule batteriche sono le più piccole, avendo una lunghezza dell'ordine di 1 µm (un milionesimo di metro)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9" descr="batteri2"/>
          <p:cNvPicPr/>
          <p:nvPr/>
        </p:nvPicPr>
        <p:blipFill>
          <a:blip r:embed="rId1"/>
          <a:stretch/>
        </p:blipFill>
        <p:spPr>
          <a:xfrm>
            <a:off x="552600" y="1857240"/>
            <a:ext cx="3227400" cy="3227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neurone"/>
          <p:cNvPicPr/>
          <p:nvPr/>
        </p:nvPicPr>
        <p:blipFill>
          <a:blip r:embed="rId1"/>
          <a:stretch/>
        </p:blipFill>
        <p:spPr>
          <a:xfrm>
            <a:off x="4737240" y="800280"/>
            <a:ext cx="4406760" cy="6057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L’aspetto delle cell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24000" y="1484280"/>
            <a:ext cx="5040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ll'altro estremo si trovano le cellule nervose, che hanno forme molto complesse, essendo dotate di numerosi sottili prolungamenti che possono raggiungere anche diversi metri di lunghezza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(si pensi, ad esempio, alle fibre nervose presenti nel collo di una giraffa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3:28:53Z</dcterms:created>
  <dc:creator>amedeo</dc:creator>
  <dc:description/>
  <dc:language>en-US</dc:language>
  <cp:lastModifiedBy>BadBoy - DDLHits.com</cp:lastModifiedBy>
  <dcterms:modified xsi:type="dcterms:W3CDTF">2014-02-01T03:33:09Z</dcterms:modified>
  <cp:revision>150</cp:revision>
  <dc:subject/>
  <dc:title>cellula</dc:title>
</cp:coreProperties>
</file>