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34.gif" ContentType="image/gif"/>
  <Override PartName="/ppt/media/image20.jpeg" ContentType="image/jpeg"/>
  <Override PartName="/ppt/media/image19.png" ContentType="image/png"/>
  <Override PartName="/ppt/media/image22.jpeg" ContentType="image/jpeg"/>
  <Override PartName="/ppt/media/image7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33.gif" ContentType="image/gif"/>
  <Override PartName="/ppt/media/image1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jpeg" ContentType="image/jpeg"/>
  <Override PartName="/ppt/media/image23.jpeg" ContentType="image/jpeg"/>
  <Override PartName="/ppt/media/image14.gif" ContentType="image/gif"/>
  <Override PartName="/ppt/media/image15.jpeg" ContentType="image/jpeg"/>
  <Override PartName="/ppt/media/image16.png" ContentType="image/png"/>
  <Override PartName="/ppt/media/image17.jpeg" ContentType="image/jpe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19B-A850-4C07-9F7C-6D206834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F7B-9E84-4F5E-B527-9D61054C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AF7-56E5-4B36-B98E-81945C5A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65E-15DF-4249-B7CE-A56F0424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1AF-DEE9-4D2A-9A2F-B4AFDB3D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D5B-92B6-4264-8358-2EFD8D1F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B81-3E29-49EE-8A46-76750E85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8A9-134E-4131-A938-F543D643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199-A3F9-4AC1-A25D-8E368B70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D04-316A-4A64-8587-C818D7AA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8E7-CC95-4CF1-B2DE-077AC133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433-3A09-4740-A28C-B74F0BA5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195C-C1F7-4B75-813D-C8A529DACF3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87640" y="2681280"/>
            <a:ext cx="3390840" cy="334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8920" y="1052280"/>
            <a:ext cx="626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Deriva dei Continenti</a:t>
            </a:r>
            <a:br>
              <a:rPr sz="4000"/>
            </a:b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e</a:t>
            </a:r>
            <a:br>
              <a:rPr sz="4000"/>
            </a:b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Tettonica a Zol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Deriva dei Continen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557360"/>
            <a:ext cx="32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irca 200 milioni di anni fa tutti i continenti erano riuniti in un’unica massa continentale, che Wegener chiamò Pangea, circondata da un unico grande Oceano, la Pantalass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5416560" cy="509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1280" y="836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a teo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724280" cy="3035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Deriva dei Continen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191628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er continen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 sarebbe in seguito fratturato; i diversi frammenti, come enormi zatteroni, sarebbero andati alla deriva, allontanandosi l’uno dall’altro, fino ad occupare la posizione attua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836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a teo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Deriva dei Continen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3284640"/>
            <a:ext cx="45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orrispondenza quasi perfetta dei margini dei continenti che si incastrano l'un l'altro come in un mosaic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10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e pro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480204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9120" y="1989000"/>
            <a:ext cx="5114880" cy="3676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Deriva dei Continen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4282920" y="2071800"/>
            <a:ext cx="45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ritrovamento di fossili delle stesse piante e degli stessi animali vissuti in epoche remote in continenti ora separati dagli ocean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0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e pro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Deriva dei Continen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4067280" y="207180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 potevano attraversare gli oceani animali incapaci di nuotar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052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e pro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4643280" cy="349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92560" y="580536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ff"/>
                </a:solidFill>
                <a:latin typeface="Comic Sans MS"/>
              </a:rPr>
              <a:t>Mesosaur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4897440" cy="4168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Deriva dei Continen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216360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ontinuità geologica di strutture rocciose ora presenti su continenti divers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052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e pro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00000" y="2276640"/>
            <a:ext cx="3384720" cy="27367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Deriva dei Continen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163600"/>
            <a:ext cx="42480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punto debole dell'impalcatura della teoria di Wegener era l'incertezza della forza motric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uale forza era così enorme da riuscire a spostare i continent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052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e criti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324000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Deriva dei Continen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163600"/>
            <a:ext cx="424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lfred Wegen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orì nel 1930 durante una spedizione in Groenlandia senza essere riuscito a dimostrare in modo definitivo la fondatezza della sua ipotes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333960" cy="4286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Tettonica a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26828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tempo e i nuovi mezzi a disposizione della scienza permisero in seguito di rivalutare l’opera di Wegen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3500280"/>
            <a:ext cx="4248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li anni ’30 del secolo scorso si scoprì sui fondali dell’Atlantico una serie di rilievi sottomarini: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rsale medio–atlantic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3390840" cy="334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Tettonica a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1268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lche decina di anni dopo, con l’aiuto dell’ecoscandaglio, si scoprì che tali strutture erano presenti sui fondali di tutti gli ocean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6829560" cy="3943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truttura della Ter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1557360"/>
            <a:ext cx="36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 studio delle onde sismiche ha fatto ipotizzare agli scienziati che la Terra sia formata da tre principali stra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crosta terrest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mante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nucle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826080" cy="3375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7053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Tettonica a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268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 scoprì inoltre che le dorsali sono interessate da intensi fenomeni sismici e vulcanic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Tettonica a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26828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cessivamente  si scoprì che la crosta vicino alla dorsale era più giovane di quella prossima alle cos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2862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Tettonica a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26828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tte queste osservazioni portarono gli scienziati a formulare la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eoria della Tettonica a Placc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o questa teoria la crosta terrestre sarebbe divisa in  una ventina di frammenti rigidi e di diverse dimensioni: l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cc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ol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3500280"/>
            <a:ext cx="5761080" cy="2881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Tettonica a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47512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placche sono giustapposte come le tessere di un mosaico e “galleggiano” sulla sottostante astenosfera spostandosi orizzontalmente e trasportando con loro continenti e ocean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777440" cy="3422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Tettonica a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341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placche posson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ontanars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ontrars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orr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e une rispetto alle alt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372360" y="2492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 Movimenti delle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1628640"/>
            <a:ext cx="824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 margini di due placche si allontanano l’uno dall’altro causando una lacerazione della crosta. Il magma profondo risale lungo le grandi fratturazioni che vengono a crearsi dando origine ad una intensa attività vulcanica. La lunga linea di vulcani che è caratteristica di questa struttura viene chiamata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orsa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052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rgini diverge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8137440" cy="2144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 Movimenti delle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0280"/>
            <a:ext cx="8820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do i margini di due placche si avvicinano si parla d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rgini convergen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ma gli effetti che ne derivano dipendono dalla natura delle due placc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contro di crosta oceanica con crosta oceanica;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-scontro di crosta oceanica con crosta continentale;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-scontro di crosta continentale con crosta continent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 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1052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rgini converge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 Movimenti delle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184464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a delle due placche si infossa sotto l’altra, con un fenomeno chiamat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bduzion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 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0526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Crosta oceanica contro crosta ocean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63640" y="3581280"/>
            <a:ext cx="5924520" cy="3276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314880" y="3645000"/>
            <a:ext cx="5829120" cy="3219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 Movimenti delle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1844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questo caso la placca oceanica, più pesante,  subduce e la crosta continentale, formata da materiali più leggeri, risponde alle spinte dell’altra deformandosi, ripiegandosi ed “accartocciandosi”. Nasce in questo modo il fenomen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lla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rogenes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e vede cate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 rilievi allineate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ungo le cost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ono sempre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esenti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enomeni vulcanic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  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105264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Crosta oceanica contro crosta continent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 Movimenti delle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8446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questo caso non c’è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duzione; i margini delle zolle, si sovrappongono e si accavallano l’uno all’altro, dando così origine a catene montuose interne ai continen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 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052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Crosta continentale contro crosta continent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78040" y="3486240"/>
            <a:ext cx="5962680" cy="3371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33720" y="981000"/>
            <a:ext cx="4900680" cy="5877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truttura della Ter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2076480"/>
            <a:ext cx="36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rosta è lo strato più sottile e viene classificata 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osta ocean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osta continent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1052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a Cros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 Movimenti delle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94796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cuni casi il movimento reciproco delle zolle non vede né subduzione né accavallamento, ma scivolamento, scorrimento laterale, senza  che i due blocchi si avvicinino o si allontan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052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rgini trasform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87280" y="3860640"/>
            <a:ext cx="6778800" cy="1695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 Movimenti delle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052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Riassumen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411280" y="1736640"/>
            <a:ext cx="4332600" cy="3249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21293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8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 Movimenti delle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628640"/>
            <a:ext cx="84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l è la causa che provoca il movimento delle placche? Secondo una teoria che incontra il favore di molti scienziati, ma che è soggetta a talune riserve, il movimento delle placche sarebbe provocato da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ti convettiv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 avvengono nel mantel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1052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Il Mot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3848040"/>
            <a:ext cx="4330800" cy="3009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673520" cy="4673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 Movimenti delle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3311640" y="1557360"/>
            <a:ext cx="58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riscaldamento del magma del mantello avverrebbe per contatto con il nucleo terrestre, in cui si raggiungono temperature elevate; il magma, riscaldatosi, risale verso la           litosfera generando tensioni che           ne provocano la rottura in                      placche e la formazione di                   spaccature (dorsali                            oceaniche e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f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continentali), da cui il                        magma stesso fuoriesc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1052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Il Mot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056040" cy="5229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 Movimenti delle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3780000" y="1916280"/>
            <a:ext cx="467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ma di incominciare la sua discesa di nuovo verso il nucleo, il magma si sposta orizzontalmente e provoca lo spostamento delle placche che galleggiano su di esso e possono così allontanarsi (in corrispondenza di correnti ascendenti del magma), o scontrarsi (in corrispondenza di correnti discendenti del magm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1052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Il Mot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124000" y="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 Movimenti delle Plac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4335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arebbe dunque questo il meccanismo che avrebbe provocato la fratturazione della Pangea, i cui frammenti, spostati dalle correnti convettive sottostanti, vanno alla deriva e tendono a convergere e scontrarsi dove le correnti convettive ridiscendono verso il bass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1052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Il Mot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672000" cy="2754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516720" y="39988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1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Terra: com’era, com’è e come sar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044960" cy="3033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9863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2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83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F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2714400" cy="2895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556000" y="3789360"/>
            <a:ext cx="109512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truttura della Ter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1052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a Crosta Ocean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2637000"/>
            <a:ext cx="331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rosta oceanica è quella che si trova sotto gli oceani ed ha uno spessore di circa 7 k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2236680"/>
            <a:ext cx="3809880" cy="2921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truttura della Ter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1052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a Crosta Continent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5076720" y="2133720"/>
            <a:ext cx="3600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rosta continentale ha uno spessore variabile, fino a circa 70 k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rosta continentale è “più leggera” di quella oceanic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2236680"/>
            <a:ext cx="3809880" cy="2921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5422680" cy="422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truttura della Ter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052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Il Mante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5724360" y="2205000"/>
            <a:ext cx="31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tel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è lo strato intermedio, spesso circa 3000 km. È allo stato viscoso ed è sottoposto al calore prodotto nel nucle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5422680" cy="4228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truttura della Ter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052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Il Nucle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5543640" y="220500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cle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 pensa sia formato da metalli pesanti (ferro e nichel). Le temperature vanno dai 3000°C nel nucleo esterno ai 5400°C in quello inter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Deriva dei Continen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2565360"/>
            <a:ext cx="4752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l 1915 lo scienziato tedesco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lfred Wegen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nel suo libro “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a formazione degli Oceani e dei Continent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”, espose la sua teoria sulla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Deriva dei Continent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08720" y="1700280"/>
            <a:ext cx="2766960" cy="3457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219640" y="1989000"/>
            <a:ext cx="3314880" cy="3314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11280" y="0"/>
            <a:ext cx="46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a Deriva dei Continen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916280"/>
            <a:ext cx="4537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ll'esaminare la carta geografica dei due emisferi, Wegener fu colpito dalla straordinaria coincidenza delle linee di costa su entrambi i lati dell’Oceano Atlantico.  Immaginò i continenti come le tessere di un enorme puzz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3:28:53Z</dcterms:created>
  <dc:creator>amedeo</dc:creator>
  <dc:description/>
  <dc:language>en-US</dc:language>
  <cp:lastModifiedBy>Amedeo</cp:lastModifiedBy>
  <dcterms:modified xsi:type="dcterms:W3CDTF">2013-11-21T04:56:23Z</dcterms:modified>
  <cp:revision>294</cp:revision>
  <dc:subject/>
  <dc:title>L’ambiente e l’ecologia</dc:title>
</cp:coreProperties>
</file>