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25B-800D-4B12-977D-73DCB6F9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A22-8CC5-4F48-BAAF-66233BAE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CB1-4144-4E77-B714-69208C1C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AD0-8C9E-4BDE-BB6D-C4FD18C4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EE9-2090-4320-AB43-7E5AAC5F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5E9-9165-4C53-A42B-8E3DEAB5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8AF-CB5C-4F1C-AF97-AED7326D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2A7-7742-4993-BA0E-A29275E2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5E5-2251-4295-9809-A504A411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F64-5396-40C7-8F6A-7449AE4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AAA-2BF8-48FC-B716-EA87AD25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B38-D55C-450D-A3A8-A5A1EF86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5013-BE4B-422E-AD2B-38218B3028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ovo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838080"/>
            <a:ext cx="428652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4000" y="1412640"/>
            <a:ext cx="5900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La Pel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6257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Com’è fatta la pel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1700280"/>
            <a:ext cx="4392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cune cellule dello strato germinativo contengono l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lani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e protegge il corpo dal Sole, donando un colorito più scur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68272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Com’è fatta la pel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170028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derma è uno strato resistente dove si trovano molti vasi sanguigni e tantissimi organelli nervosi, detti </a:t>
            </a:r>
            <a:r>
              <a:rPr b="0" lang="it-IT" sz="2800" spc="-1" strike="noStrike">
                <a:solidFill>
                  <a:srgbClr val="cc0000"/>
                </a:solidFill>
                <a:latin typeface="Comic Sans MS"/>
              </a:rPr>
              <a:t>ricettor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specializzati a rispondere  a stimoli divers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Gli annessi cutan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2637000"/>
            <a:ext cx="3097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peli e i capelli sono formati dalla cheratina, una proteina particolarmente  resist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268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 peli e i capel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4040" y="1778040"/>
            <a:ext cx="50799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Gli annessi cutan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2349360"/>
            <a:ext cx="3097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gni pelo cresce in una piccola cavità, il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ollicolo pilifer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in fondo al quale si trova il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bulbo pilifer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268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 peli e i capel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346720" cy="426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4941720"/>
            <a:ext cx="1403280" cy="9352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258920" y="5084640"/>
            <a:ext cx="1368360" cy="43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6920" y="4869000"/>
            <a:ext cx="1800360" cy="288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Gli annessi cutan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2349360"/>
            <a:ext cx="30970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gni pelo è dotato di un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uscolo eretto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pace di far “rizzare i peli” o far venire “la pelle d’oca”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268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 peli e i capel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346720" cy="426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4000" y="4005360"/>
            <a:ext cx="100800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4437000"/>
            <a:ext cx="1944720" cy="71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Gli annessi cutan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1989000"/>
            <a:ext cx="309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essi al pelo vi sono anche le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hiandole sebac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e producono il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eb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una sostanza grassa che lubrifica il pelo e difende la pel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268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 peli e i capel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34672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2852640"/>
            <a:ext cx="115272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213000"/>
            <a:ext cx="2017800" cy="936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Gli annessi cutan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2492280"/>
            <a:ext cx="71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unghie sono costituite d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erati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 si formano da cellule epidermiche. Le unghie proteggono le estremità delle dita e facilitano la prese di piccoli ogget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268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Le ungh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4172040"/>
            <a:ext cx="4048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57840" y="1038240"/>
            <a:ext cx="4286160" cy="5819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Gli annessi cutan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205000"/>
            <a:ext cx="4751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no strutture a gomitolo che attraversano l’epidermide fino a sboccare all’esterno tramite piccole aperture dette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or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Queste ghiandole producono il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udo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268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Le ghiandole sudorip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57840" y="1038240"/>
            <a:ext cx="4286160" cy="581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Gli annessi cutan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268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Le ghiandole sudorip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00280"/>
            <a:ext cx="4535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sudore è un liquido simile all’urina, contiene acqua, urea e sali minerali. Eliminando il sudore il corpo elimina le sostanze di scarto mentre l’eliminazione dell’acqua contribuisce alla regolazione della temperatura corporea (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termoregolazi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3962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971600" y="5950080"/>
            <a:ext cx="3926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tratto dal sito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ovo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7848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0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La Pel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2205000"/>
            <a:ext cx="410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pelle o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u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è l’organo più esteso del nostro corpo e ne costituisce il rivestimen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2718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59280" y="19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F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La Pel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773360"/>
            <a:ext cx="35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pelle protegge e difende il corpo dai microrganismi, dalle sostanze tossiche, dai raggi ultravioletti del Sole, inoltre è impermeabile all’acqu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40360" y="2060640"/>
            <a:ext cx="4851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La Pel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989000"/>
            <a:ext cx="35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pelle svolge un ruolo importante nei meccanismi che regolano la temperatura del corp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03696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La Pel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484280"/>
            <a:ext cx="41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diante l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traspirazi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a evaporare sudore dai pori raffreddando il corpo se troppo caldo, oppure, come isolante, ne rallenta la perdita di calore quando fa fred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03696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14640" y="0"/>
            <a:ext cx="5229360" cy="3219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La Pel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484280"/>
            <a:ext cx="41767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pelle è dotata di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annessi cutane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e unghie, i peli, i capelli, le ghiandole sudoripare e sebace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 l’importanza delle funzioni svolte, la pelle e gli annessi costituiscono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l’apparato tegumentar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Com’è fatta la pel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1700280"/>
            <a:ext cx="3527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pelle è un organo formato da uno strato esterno, chiamato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epiderm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e da uno strato sottostante, il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erm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0799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00000" y="1268280"/>
            <a:ext cx="777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epiderm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 compone di un tessuto epiteliale che non lascia spazio all’ingresso di sostanze estranee, è privo di vasi sanguigni ma ricco di terminazioni nervo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Com’è fatta la pel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53532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700280"/>
            <a:ext cx="856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strato più superficiale (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trato corne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è formato da cellule morte ed è sopra lo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trato germinativ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e produce nuove cellu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Com’è fatta la pel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53532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22:15:36Z</dcterms:created>
  <dc:creator> </dc:creator>
  <dc:description/>
  <dc:language>en-US</dc:language>
  <cp:lastModifiedBy>amedeo</cp:lastModifiedBy>
  <dcterms:modified xsi:type="dcterms:W3CDTF">2012-12-05T14:28:28Z</dcterms:modified>
  <cp:revision>58</cp:revision>
  <dc:subject/>
  <dc:title>Le leggi di Mendel</dc:title>
</cp:coreProperties>
</file>