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7.jpeg" ContentType="image/jpeg"/>
  <Override PartName="/ppt/media/image54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25.png" ContentType="image/pn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24.jpeg" ContentType="image/jpeg"/>
  <Override PartName="/ppt/media/image1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9.jpeg" ContentType="image/jpeg"/>
  <Override PartName="/ppt/media/image67.jpeg" ContentType="image/jpeg"/>
  <Override PartName="/ppt/media/image63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64.png" ContentType="image/png"/>
  <Override PartName="/ppt/media/image60.jpeg" ContentType="image/jpeg"/>
  <Override PartName="/ppt/media/image77.jpeg" ContentType="image/jpeg"/>
  <Override PartName="/ppt/media/image72.jpeg" ContentType="image/jpeg"/>
  <Override PartName="/ppt/media/image2.png" ContentType="image/png"/>
  <Override PartName="/ppt/media/image50.jpeg" ContentType="image/jpeg"/>
  <Override PartName="/ppt/media/image11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74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72C-8CAA-44D3-B6D3-5CC398CC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C9D-6137-47F0-9EAD-132D1A5E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7CD-21A7-494A-AB33-2AC1E0C9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E56-D6D5-484A-89F7-708C8479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933-D355-4D5E-85C2-73FF359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FC4-BD30-4C6F-93AC-759CE525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0E1-150C-48DE-8E7F-1171A70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D18-6A5E-40FB-BA8B-8C0BA537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5C6-4823-4C4D-800F-ABA885AD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68A-840E-4A7C-AD89-6C8945BB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1ED-9539-4853-BD58-54685A44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74D-903A-4A4B-81A2-7FE49BA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8A6B-40EB-44C8-826F-22F377EDC3C0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I 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Picture 8" descr="scheletroserpente"/>
          <p:cNvPicPr/>
          <p:nvPr/>
        </p:nvPicPr>
        <p:blipFill>
          <a:blip r:embed="rId1"/>
          <a:stretch/>
        </p:blipFill>
        <p:spPr>
          <a:xfrm>
            <a:off x="1763640" y="1989000"/>
            <a:ext cx="5689800" cy="3654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uovopulc"/>
          <p:cNvPicPr/>
          <p:nvPr/>
        </p:nvPicPr>
        <p:blipFill>
          <a:blip r:embed="rId1"/>
          <a:stretch/>
        </p:blipFill>
        <p:spPr>
          <a:xfrm>
            <a:off x="3959280" y="2071800"/>
            <a:ext cx="5005440" cy="3805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68360" y="1916280"/>
            <a:ext cx="46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opo la fecondazione molte specie di vertebrati depongono le uova (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vipar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da cui si svilupperà il nuovo essere, altre invece trattengono nel corpo della femmina l’uovo fecondato (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vivipar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fino alla nasci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112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I vertebrati più antich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8" descr="pagliaccio"/>
          <p:cNvPicPr/>
          <p:nvPr/>
        </p:nvPicPr>
        <p:blipFill>
          <a:blip r:embed="rId1"/>
          <a:stretch/>
        </p:blipFill>
        <p:spPr>
          <a:xfrm>
            <a:off x="3635280" y="2276640"/>
            <a:ext cx="5079960" cy="3035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900000" y="191628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rimi vertebrati comparsi sulla Terra furono i pesc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I vertebrati più antich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191628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antenati degli attuali pesci avevano forme strane e con corazze di rivestimento, erano animali privi di mascella e di forma allunga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7" descr="placoderma"/>
          <p:cNvPicPr/>
          <p:nvPr/>
        </p:nvPicPr>
        <p:blipFill>
          <a:blip r:embed="rId1"/>
          <a:stretch/>
        </p:blipFill>
        <p:spPr>
          <a:xfrm>
            <a:off x="971640" y="3284640"/>
            <a:ext cx="7619760" cy="2400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4514040" y="54705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lacoder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tonno"/>
          <p:cNvPicPr/>
          <p:nvPr/>
        </p:nvPicPr>
        <p:blipFill>
          <a:blip r:embed="rId1"/>
          <a:stretch/>
        </p:blipFill>
        <p:spPr>
          <a:xfrm>
            <a:off x="4716360" y="2781360"/>
            <a:ext cx="4019760" cy="1495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11" descr="pesce_angelo"/>
          <p:cNvPicPr/>
          <p:nvPr/>
        </p:nvPicPr>
        <p:blipFill>
          <a:blip r:embed="rId2"/>
          <a:stretch/>
        </p:blipFill>
        <p:spPr>
          <a:xfrm>
            <a:off x="5796000" y="549360"/>
            <a:ext cx="26002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pesce_farfalla"/>
          <p:cNvPicPr/>
          <p:nvPr/>
        </p:nvPicPr>
        <p:blipFill>
          <a:blip r:embed="rId3"/>
          <a:stretch/>
        </p:blipFill>
        <p:spPr>
          <a:xfrm>
            <a:off x="0" y="0"/>
            <a:ext cx="377208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39640" y="1779480"/>
            <a:ext cx="561672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esci presentano alcune caratteristiche comun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letr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sse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rtilagineo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vvist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verteb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rti a forma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in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lle nuda o coperta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gli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ranchi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er respira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teroterm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produzione sessu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13" descr="murena"/>
          <p:cNvPicPr/>
          <p:nvPr/>
        </p:nvPicPr>
        <p:blipFill>
          <a:blip r:embed="rId4"/>
          <a:stretch/>
        </p:blipFill>
        <p:spPr>
          <a:xfrm>
            <a:off x="5003640" y="5229360"/>
            <a:ext cx="3648240" cy="1304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squalo02"/>
          <p:cNvPicPr/>
          <p:nvPr/>
        </p:nvPicPr>
        <p:blipFill>
          <a:blip r:embed="rId1"/>
          <a:stretch/>
        </p:blipFill>
        <p:spPr>
          <a:xfrm>
            <a:off x="179280" y="2565360"/>
            <a:ext cx="525780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067280" y="1268280"/>
            <a:ext cx="4825800" cy="40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esci presentano numerosi adattamenti che consentono loro di affrontare l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fficoltà della vita acquatica ma anche di sfruttarne i vantaggi: osserviamone i principal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9640" y="1125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mov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39640" y="1700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esci si muovono agevolmente nell’acqua grazie alla lor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orma idrodinamic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la più adatta a offrire la minor resistenza possibile all’acqu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escepagliaccio" descr=""/>
          <p:cNvPicPr/>
          <p:nvPr/>
        </p:nvPicPr>
        <p:blipFill>
          <a:blip r:embed="rId1"/>
          <a:stretch/>
        </p:blipFill>
        <p:spPr>
          <a:xfrm>
            <a:off x="2627280" y="3556080"/>
            <a:ext cx="396252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225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1125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mov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9640" y="1700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spostamenti verticali sono possibili nei pesci ossei anche grazie alla vescica natatoria, un sacco membranoso che contiene quantità variabili di g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8" descr="anatomia1"/>
          <p:cNvPicPr/>
          <p:nvPr/>
        </p:nvPicPr>
        <p:blipFill>
          <a:blip r:embed="rId1"/>
          <a:stretch/>
        </p:blipFill>
        <p:spPr>
          <a:xfrm>
            <a:off x="2556000" y="3645000"/>
            <a:ext cx="4176720" cy="3027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9640" y="1125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l mov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9640" y="170028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sci cartilagine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on hanno la vescica natatoria, gli spostamenti verticali sono possibili grazie al loro continuo movi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1125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l mimetismo nell’acqu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39640" y="1700280"/>
            <a:ext cx="8136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cuni pesci si mimetizzano perfettamente assumendo la colorazione dell’ambiente in cui vivo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Qual è l’ambiente in cui vive il romb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8" descr="rombo"/>
          <p:cNvPicPr/>
          <p:nvPr/>
        </p:nvPicPr>
        <p:blipFill>
          <a:blip r:embed="rId1"/>
          <a:stretch/>
        </p:blipFill>
        <p:spPr>
          <a:xfrm>
            <a:off x="2843280" y="3933720"/>
            <a:ext cx="4048200" cy="2695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667840" y="56865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mb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1125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mimetismo nell’acqu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9640" y="1700280"/>
            <a:ext cx="8136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esci che vivono in mare aperto adottano, invece, una “strategia” più sofistica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Sai dire perché il ventre del tonno è chiaro mentre il dorso è scur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656600" y="58053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onno pinne gial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9" descr="tonnopinnegialle"/>
          <p:cNvPicPr/>
          <p:nvPr/>
        </p:nvPicPr>
        <p:blipFill>
          <a:blip r:embed="rId1"/>
          <a:stretch/>
        </p:blipFill>
        <p:spPr>
          <a:xfrm>
            <a:off x="2627280" y="3789360"/>
            <a:ext cx="4267080" cy="1924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colonna vertebrale"/>
          <p:cNvPicPr/>
          <p:nvPr/>
        </p:nvPicPr>
        <p:blipFill>
          <a:blip r:embed="rId1"/>
          <a:stretch/>
        </p:blipFill>
        <p:spPr>
          <a:xfrm>
            <a:off x="4710240" y="2133720"/>
            <a:ext cx="4038480" cy="2886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070000"/>
            <a:ext cx="47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vertebrati comprendono un ampio gruppo di animali caratterizzati da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lonna vertebr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elemento portante del loro scheletro intern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ndoschelet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branchie"/>
          <p:cNvPicPr/>
          <p:nvPr/>
        </p:nvPicPr>
        <p:blipFill>
          <a:blip r:embed="rId1"/>
          <a:stretch/>
        </p:blipFill>
        <p:spPr>
          <a:xfrm>
            <a:off x="1692360" y="2533680"/>
            <a:ext cx="5629320" cy="4324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1125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’ossige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9640" y="1700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pesci si riforniscono di ossigeno attraverso le branchie, organi costituiti da lamelle ricche di vasi sanguigni perennemente attraversate dall’acqua da cui traggono l’ossige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pesci"/>
          <p:cNvPicPr/>
          <p:nvPr/>
        </p:nvPicPr>
        <p:blipFill>
          <a:blip r:embed="rId1"/>
          <a:stretch/>
        </p:blipFill>
        <p:spPr>
          <a:xfrm>
            <a:off x="2484360" y="2852640"/>
            <a:ext cx="4249800" cy="3081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Pes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9640" y="1125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700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pesci sono generalment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ipar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la fecondazione è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er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le uova, deposte dalla femmina, vengono fecondate direttamente nell’acqu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I primi vertebrati terrest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206064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irca 370 milioni di anni fa, pesci simili agli attuali dipnoi, si spinsero a esplorare la terraferma dando poi origine ai prim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nfib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dipnoi" descr=""/>
          <p:cNvPicPr/>
          <p:nvPr/>
        </p:nvPicPr>
        <p:blipFill>
          <a:blip r:embed="rId1"/>
          <a:stretch/>
        </p:blipFill>
        <p:spPr>
          <a:xfrm>
            <a:off x="4500720" y="218916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515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987640" y="1773360"/>
            <a:ext cx="58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attuali anfibi sono ancora molto legati all’acqua: nella prima parte della loro vita vivono nell’acqua, respirando con le branchie come se fossero pesci. Da adulti, invece, respirano attraverso i polmoni anche se rimangono molto legati alla vita acquatica dove depongono le uov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7" descr="girino"/>
          <p:cNvPicPr/>
          <p:nvPr/>
        </p:nvPicPr>
        <p:blipFill>
          <a:blip r:embed="rId1"/>
          <a:stretch/>
        </p:blipFill>
        <p:spPr>
          <a:xfrm>
            <a:off x="971640" y="1557360"/>
            <a:ext cx="1895400" cy="189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rana"/>
          <p:cNvPicPr/>
          <p:nvPr/>
        </p:nvPicPr>
        <p:blipFill>
          <a:blip r:embed="rId1"/>
          <a:stretch/>
        </p:blipFill>
        <p:spPr>
          <a:xfrm>
            <a:off x="4859280" y="3068640"/>
            <a:ext cx="4010040" cy="299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79280" y="1773360"/>
            <a:ext cx="590544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aratteristiche comuni agli anfibi son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letro osseo con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verteb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lle nuda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li adulti, respirazion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olmon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attraverso 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l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teroterm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produzion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essu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on  produzione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uova gelatinos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metamorfo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8" descr="metamorfosi01"/>
          <p:cNvPicPr/>
          <p:nvPr/>
        </p:nvPicPr>
        <p:blipFill>
          <a:blip r:embed="rId1"/>
          <a:stretch/>
        </p:blipFill>
        <p:spPr>
          <a:xfrm>
            <a:off x="1332000" y="2205000"/>
            <a:ext cx="7047000" cy="3784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raganella02"/>
          <p:cNvPicPr/>
          <p:nvPr/>
        </p:nvPicPr>
        <p:blipFill>
          <a:blip r:embed="rId1"/>
          <a:stretch/>
        </p:blipFill>
        <p:spPr>
          <a:xfrm>
            <a:off x="0" y="326880"/>
            <a:ext cx="4344840" cy="6531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espir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059280" y="1773360"/>
            <a:ext cx="590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Quasi tutti gli anfibi, oltre a respirare con i polmoni, lo fanno anche attraverso la pel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espirazione cutan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La pelle degli anfibi secerne una sostanza mucosa che trattiene l’ossigeno che poi passa nel sangue per essere trasportato nelle cellule del cor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salamandra_salamandre"/>
          <p:cNvPicPr/>
          <p:nvPr/>
        </p:nvPicPr>
        <p:blipFill>
          <a:blip r:embed="rId1"/>
          <a:stretch/>
        </p:blipFill>
        <p:spPr>
          <a:xfrm>
            <a:off x="468360" y="2349360"/>
            <a:ext cx="6095880" cy="3571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tempera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835280" y="263196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temperatura del corpo degli anfibi è variabile, sono animal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eteroter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girino03"/>
          <p:cNvPicPr/>
          <p:nvPr/>
        </p:nvPicPr>
        <p:blipFill>
          <a:blip r:embed="rId1"/>
          <a:stretch/>
        </p:blipFill>
        <p:spPr>
          <a:xfrm>
            <a:off x="4194000" y="692280"/>
            <a:ext cx="4950000" cy="16239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mov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8" descr="zampapalmata"/>
          <p:cNvPicPr/>
          <p:nvPr/>
        </p:nvPicPr>
        <p:blipFill>
          <a:blip r:embed="rId2"/>
          <a:stretch/>
        </p:blipFill>
        <p:spPr>
          <a:xfrm>
            <a:off x="755640" y="2060640"/>
            <a:ext cx="5079960" cy="4216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050920" y="458136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girini si muovono come i pesci, nuotano grazie al movimento della coda. Gli adulti hanno le zampe palmate adatte al nuo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dife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68360" y="234936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anfibi si difendono attraverso il mimetismo oppure grazie al fatto che la loro carne è velenosa per i predator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0" descr="mimetismo_rane"/>
          <p:cNvPicPr/>
          <p:nvPr/>
        </p:nvPicPr>
        <p:blipFill>
          <a:blip r:embed="rId1"/>
          <a:stretch/>
        </p:blipFill>
        <p:spPr>
          <a:xfrm>
            <a:off x="4859280" y="24922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frogskele2"/>
          <p:cNvPicPr/>
          <p:nvPr/>
        </p:nvPicPr>
        <p:blipFill>
          <a:blip r:embed="rId1"/>
          <a:stretch/>
        </p:blipFill>
        <p:spPr>
          <a:xfrm>
            <a:off x="4716360" y="2205000"/>
            <a:ext cx="3333960" cy="2648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395280" y="1916280"/>
            <a:ext cx="475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caratteristica comune dei vertebrati è lo scheletro interno, sorretto da un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lonna vertebr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le altre ossa possono essere di forma molto di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95280" y="112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o schel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nfib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 dife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87280" y="2421000"/>
            <a:ext cx="33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lore brillante di molti anfibi segnala ai predatori la loro velenosità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564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8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onquista de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258920" y="2276640"/>
            <a:ext cx="25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irca 300 milioni di anni fa dagli anfibi si sono evoluti 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etti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dino"/>
          <p:cNvPicPr/>
          <p:nvPr/>
        </p:nvPicPr>
        <p:blipFill>
          <a:blip r:embed="rId1"/>
          <a:stretch/>
        </p:blipFill>
        <p:spPr>
          <a:xfrm>
            <a:off x="3924360" y="227664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serpente02"/>
          <p:cNvPicPr/>
          <p:nvPr/>
        </p:nvPicPr>
        <p:blipFill>
          <a:blip r:embed="rId1"/>
          <a:stretch/>
        </p:blipFill>
        <p:spPr>
          <a:xfrm>
            <a:off x="0" y="1143000"/>
            <a:ext cx="4167360" cy="2676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La conquista de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3083040"/>
            <a:ext cx="7128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aratteristiche comuni ai rettili son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letro provvisto d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verteb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lle coperta d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qua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lmoni per respira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teroterm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ova con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usc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aretta caretta"/>
          <p:cNvPicPr/>
          <p:nvPr/>
        </p:nvPicPr>
        <p:blipFill>
          <a:blip r:embed="rId1"/>
          <a:stretch/>
        </p:blipFill>
        <p:spPr>
          <a:xfrm>
            <a:off x="539640" y="1557360"/>
            <a:ext cx="5448240" cy="469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88000" y="2276640"/>
            <a:ext cx="39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e adattamento all’ambiente terrestre, asciutto, i rettili devono evitare la disidratazione del corpo; questo pertanto è rivestit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qua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rivestimen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muta"/>
          <p:cNvPicPr/>
          <p:nvPr/>
        </p:nvPicPr>
        <p:blipFill>
          <a:blip r:embed="rId1"/>
          <a:stretch/>
        </p:blipFill>
        <p:spPr>
          <a:xfrm>
            <a:off x="0" y="0"/>
            <a:ext cx="9144000" cy="22734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84360" y="2565360"/>
            <a:ext cx="777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riamente a quella degli anfibi, la pelle dei rettili è poverissima di ghiandole ed è soggetta al fenomeno d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ut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cambio periodico del suo primo str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79280" y="1268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rivestimen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79280" y="1268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temperatura del corp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9" descr="iguana2"/>
          <p:cNvPicPr/>
          <p:nvPr/>
        </p:nvPicPr>
        <p:blipFill>
          <a:blip r:embed="rId1"/>
          <a:stretch/>
        </p:blipFill>
        <p:spPr>
          <a:xfrm>
            <a:off x="1258920" y="2668680"/>
            <a:ext cx="3600360" cy="284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4211640" y="2565360"/>
            <a:ext cx="34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rettili s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teroter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e, pertanto, la loro vita è molto condizionata dalla temperatura dell’ambi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79280" y="1268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temperatura del corp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8" descr="ibernazione2"/>
          <p:cNvPicPr/>
          <p:nvPr/>
        </p:nvPicPr>
        <p:blipFill>
          <a:blip r:embed="rId1"/>
          <a:stretch/>
        </p:blipFill>
        <p:spPr>
          <a:xfrm>
            <a:off x="144360" y="2422440"/>
            <a:ext cx="4932360" cy="2951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4572000" y="191628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e le temperature superano determinati valori, diventando troppo alte o troppo basse, i rettili entrano in uno stato di vita latent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bern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riducendo ogni tipo di attività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cocc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espirazion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411280" y="2060640"/>
            <a:ext cx="44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nche se alcuni rettili vivono nell’acqua, sono animali adattati alla vita terrestre e la loro respirazione avviene attraverso organi adatti a ricavare ossigeno dall’aria: i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polmoni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nascita_serpente"/>
          <p:cNvPicPr/>
          <p:nvPr/>
        </p:nvPicPr>
        <p:blipFill>
          <a:blip r:embed="rId1"/>
          <a:stretch/>
        </p:blipFill>
        <p:spPr>
          <a:xfrm>
            <a:off x="468360" y="2565360"/>
            <a:ext cx="4419720" cy="2838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348000" y="2646360"/>
            <a:ext cx="44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rettili si riproducono fuori dall’acqua. Ciò è possibile perché le loro uova hanno un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usc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rigido che le protegge dall’essiccament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uovo_rettile"/>
          <p:cNvPicPr/>
          <p:nvPr/>
        </p:nvPicPr>
        <p:blipFill>
          <a:blip r:embed="rId1"/>
          <a:stretch/>
        </p:blipFill>
        <p:spPr>
          <a:xfrm>
            <a:off x="184320" y="2565360"/>
            <a:ext cx="5682960" cy="2700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708360" y="177336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uovo possiede molto tuorlo e delle membrane che proteggono l’embrion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79280" y="1197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rti con lo stesso tipo di ossa ma di forma diversa a seconda della funzione che devono svolgere (adattamento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7" descr="omologie1"/>
          <p:cNvPicPr/>
          <p:nvPr/>
        </p:nvPicPr>
        <p:blipFill>
          <a:blip r:embed="rId1"/>
          <a:stretch/>
        </p:blipFill>
        <p:spPr>
          <a:xfrm>
            <a:off x="179280" y="2495520"/>
            <a:ext cx="8569440" cy="4243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copularettili"/>
          <p:cNvPicPr/>
          <p:nvPr/>
        </p:nvPicPr>
        <p:blipFill>
          <a:blip r:embed="rId1"/>
          <a:stretch/>
        </p:blipFill>
        <p:spPr>
          <a:xfrm>
            <a:off x="324000" y="2003400"/>
            <a:ext cx="4464000" cy="40384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211640" y="1773360"/>
            <a:ext cx="446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presenza del guscio ha comportato un’ulteriore novità nella riproduzione dei rettili: le loro uova devono essere, infatti, fecondate prima che si formi il guscio, quando sono ancora nel corpo della femmin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econdazione inter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Vivere sulla terrafer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716360" y="2133720"/>
            <a:ext cx="446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tutti i rettili sono ovipari, alcuni, come la vipera è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ovivi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le uova vengono trattenute nel corpo della femmina e si schiudono quando sono ancora nel suo corpo, dal quale fuoriescono, quindi, i piccoli già formati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9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uccellopreistorico"/>
          <p:cNvPicPr/>
          <p:nvPr/>
        </p:nvPicPr>
        <p:blipFill>
          <a:blip r:embed="rId1"/>
          <a:stretch/>
        </p:blipFill>
        <p:spPr>
          <a:xfrm>
            <a:off x="3708360" y="1413000"/>
            <a:ext cx="5435640" cy="44956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900000" y="1916280"/>
            <a:ext cx="30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uccelli hanno una struttura leggera e muscoli potenti; si sono evoluti dai rettili a partire da circa 130 milioni di anni f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birds"/>
          <p:cNvPicPr/>
          <p:nvPr/>
        </p:nvPicPr>
        <p:blipFill>
          <a:blip r:embed="rId1"/>
          <a:stretch/>
        </p:blipFill>
        <p:spPr>
          <a:xfrm>
            <a:off x="6227640" y="425520"/>
            <a:ext cx="2905200" cy="5524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55640" y="1413000"/>
            <a:ext cx="7920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uccelli presentano alcun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aratteristiche comun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letro provvist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verteb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rti anteriori a forma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rpo ricopert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n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olmon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er respira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moterm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produzione sessual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on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uova con gusc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8" descr="aquila"/>
          <p:cNvPicPr/>
          <p:nvPr/>
        </p:nvPicPr>
        <p:blipFill>
          <a:blip r:embed="rId1"/>
          <a:stretch/>
        </p:blipFill>
        <p:spPr>
          <a:xfrm>
            <a:off x="3564000" y="1557360"/>
            <a:ext cx="5580000" cy="35830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395280" y="170028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ne poche specie, come l’emù, il kiwi, il casuario, lo struzzo, il pinguino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 poche altre ancora, gli uccelli sono perfettamente adattati al vol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95280" y="1125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volo delle aqu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260960" cy="3195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5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7" descr="ossa_uccello"/>
          <p:cNvPicPr/>
          <p:nvPr/>
        </p:nvPicPr>
        <p:blipFill>
          <a:blip r:embed="rId1"/>
          <a:stretch/>
        </p:blipFill>
        <p:spPr>
          <a:xfrm>
            <a:off x="4724280" y="1628640"/>
            <a:ext cx="4419720" cy="2838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395280" y="1413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capacità di volare è favorita dalla presenza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ssa cav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he riducono il peso dell’anima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132000" y="3938760"/>
            <a:ext cx="55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oltre, per poter volare, gli uccelli devono aver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uscoli pettorali poten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he si innestano in un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stern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molto svilupp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re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10" descr="bird_skeleton"/>
          <p:cNvPicPr/>
          <p:nvPr/>
        </p:nvPicPr>
        <p:blipFill>
          <a:blip r:embed="rId2"/>
          <a:stretch/>
        </p:blipFill>
        <p:spPr>
          <a:xfrm>
            <a:off x="611280" y="3573360"/>
            <a:ext cx="3079800" cy="2414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Omeotermì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8" descr="pinguino"/>
          <p:cNvPicPr/>
          <p:nvPr/>
        </p:nvPicPr>
        <p:blipFill>
          <a:blip r:embed="rId1"/>
          <a:stretch/>
        </p:blipFill>
        <p:spPr>
          <a:xfrm>
            <a:off x="755640" y="2201760"/>
            <a:ext cx="4824360" cy="3098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4211640" y="198900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r gli uccelli, un’importante conquista è stata l’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meoterm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la capacità di mantenere costante la temperatura del cor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aquilacibo"/>
          <p:cNvPicPr/>
          <p:nvPr/>
        </p:nvPicPr>
        <p:blipFill>
          <a:blip r:embed="rId1"/>
          <a:stretch/>
        </p:blipFill>
        <p:spPr>
          <a:xfrm>
            <a:off x="900000" y="981000"/>
            <a:ext cx="4638960" cy="5343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Omeotermì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572000" y="251316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iché mantenere costante la temperatura del corpo e volare richiede molta energia, gli uccelli sono sempre alla ricerca di cib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rivest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9" descr="penne"/>
          <p:cNvPicPr/>
          <p:nvPr/>
        </p:nvPicPr>
        <p:blipFill>
          <a:blip r:embed="rId1"/>
          <a:stretch/>
        </p:blipFill>
        <p:spPr>
          <a:xfrm>
            <a:off x="3759120" y="2292480"/>
            <a:ext cx="5384880" cy="29588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0"/>
          <p:cNvSpPr/>
          <p:nvPr/>
        </p:nvSpPr>
        <p:spPr>
          <a:xfrm>
            <a:off x="468360" y="2219400"/>
            <a:ext cx="388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rpo degli uccelli è ricoperto d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n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iu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he costituiscono un ottimo isolante contro la dispersione di cal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lucertola"/>
          <p:cNvPicPr/>
          <p:nvPr/>
        </p:nvPicPr>
        <p:blipFill>
          <a:blip r:embed="rId1"/>
          <a:stretch/>
        </p:blipFill>
        <p:spPr>
          <a:xfrm>
            <a:off x="3851280" y="2205000"/>
            <a:ext cx="5019840" cy="278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95280" y="1916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ccelli e mammiferi s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meoter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ovvero hanno una temperatur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rporea costante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sci, anfibi e rettil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teroter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la temperatura del loro corpo dipende dalla temperatura dell’ambiente circosta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95280" y="112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temperatura del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79280" y="1268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rifornimento di ossige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95280" y="3645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uccelli sono provvisti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olmon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he, in questo caso, presentano dei prolungamenti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acchi aere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che contribuiscono ad alleggerire lo scheletro di questi animal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8" descr="sacchiaerei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038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nidouccello"/>
          <p:cNvPicPr/>
          <p:nvPr/>
        </p:nvPicPr>
        <p:blipFill>
          <a:blip r:embed="rId1"/>
          <a:stretch/>
        </p:blipFill>
        <p:spPr>
          <a:xfrm>
            <a:off x="3995640" y="1916280"/>
            <a:ext cx="4273560" cy="29844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044720" y="2219400"/>
            <a:ext cx="388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 uccelli sono ovipari e depongono sulla terraferma uova di grandi dimensioni rivestite da u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sci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pesso e du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971640" y="479736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nei rettili, l’uovo deve essere quindi fecondato prima che si formi il guscio 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condazione inter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Ucce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68360" y="2430360"/>
            <a:ext cx="388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r svilupparsi le uova hanno bisogno di calore per questo la maggior parte delle speci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v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e proprie uov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8" descr="pinguino checova"/>
          <p:cNvPicPr/>
          <p:nvPr/>
        </p:nvPicPr>
        <p:blipFill>
          <a:blip r:embed="rId1"/>
          <a:stretch/>
        </p:blipFill>
        <p:spPr>
          <a:xfrm>
            <a:off x="4330800" y="1773360"/>
            <a:ext cx="4813200" cy="3517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9" descr="gomphotherium"/>
          <p:cNvPicPr/>
          <p:nvPr/>
        </p:nvPicPr>
        <p:blipFill>
          <a:blip r:embed="rId1"/>
          <a:stretch/>
        </p:blipFill>
        <p:spPr>
          <a:xfrm>
            <a:off x="0" y="1844640"/>
            <a:ext cx="4879800" cy="3062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4211640" y="2060640"/>
            <a:ext cx="460836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mammiferi si sono evoluti dai rettili circa 180 milioni di anni fa ed hanno conquistato tutt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ambien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1" descr="leone"/>
          <p:cNvPicPr/>
          <p:nvPr/>
        </p:nvPicPr>
        <p:blipFill>
          <a:blip r:embed="rId1"/>
          <a:stretch/>
        </p:blipFill>
        <p:spPr>
          <a:xfrm>
            <a:off x="0" y="4019400"/>
            <a:ext cx="4419720" cy="2838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pipistrello01"/>
          <p:cNvPicPr/>
          <p:nvPr/>
        </p:nvPicPr>
        <p:blipFill>
          <a:blip r:embed="rId2"/>
          <a:stretch/>
        </p:blipFill>
        <p:spPr>
          <a:xfrm>
            <a:off x="0" y="189000"/>
            <a:ext cx="4419720" cy="2838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492360" y="1700280"/>
            <a:ext cx="48247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 conoscono oltre 4500 specie di mammiferi che vivono in ambienti molto diversi grazie a specifici adattamen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9" descr="orca"/>
          <p:cNvPicPr/>
          <p:nvPr/>
        </p:nvPicPr>
        <p:blipFill>
          <a:blip r:embed="rId3"/>
          <a:stretch/>
        </p:blipFill>
        <p:spPr>
          <a:xfrm>
            <a:off x="4229280" y="4076640"/>
            <a:ext cx="4914720" cy="240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8" descr="toporagno"/>
          <p:cNvPicPr/>
          <p:nvPr/>
        </p:nvPicPr>
        <p:blipFill>
          <a:blip r:embed="rId1"/>
          <a:stretch/>
        </p:blipFill>
        <p:spPr>
          <a:xfrm>
            <a:off x="0" y="3484440"/>
            <a:ext cx="5257800" cy="34005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24000" y="134136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mammiferi hanno dimensioni diverse: il più piccolo è il toporagno etrusco, lungo appena 35 mm per 2 grammi di peso, il più grande la balenottera azzurra che raggiunge i 33 metri e un peso di 130 tonnel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324000" y="1052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predatori del mare: le or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04496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bradipo"/>
          <p:cNvPicPr/>
          <p:nvPr/>
        </p:nvPicPr>
        <p:blipFill>
          <a:blip r:embed="rId1"/>
          <a:stretch/>
        </p:blipFill>
        <p:spPr>
          <a:xfrm>
            <a:off x="1816200" y="2935440"/>
            <a:ext cx="7327800" cy="39495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79280" y="1125360"/>
            <a:ext cx="8136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mammiferi presentano alcune caratteristiche comun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rpo rivestito d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olmon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er respira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hiandole mammari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meotermì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quasi tutt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vivipar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o schel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8" descr="scheletromammif"/>
          <p:cNvPicPr/>
          <p:nvPr/>
        </p:nvPicPr>
        <p:blipFill>
          <a:blip r:embed="rId1"/>
          <a:stretch/>
        </p:blipFill>
        <p:spPr>
          <a:xfrm>
            <a:off x="3251160" y="1557360"/>
            <a:ext cx="5892840" cy="3784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900000" y="270828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o scheletro dei mammiferi è suddiviso in tre parti: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p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tronc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r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scimpanzeCranio"/>
          <p:cNvPicPr/>
          <p:nvPr/>
        </p:nvPicPr>
        <p:blipFill>
          <a:blip r:embed="rId1"/>
          <a:stretch/>
        </p:blipFill>
        <p:spPr>
          <a:xfrm>
            <a:off x="4788000" y="2060640"/>
            <a:ext cx="4101840" cy="31366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o schel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900000" y="1700280"/>
            <a:ext cx="41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ranio, che contiene la massa cerebrale, è molto ampio e il maggior volume del cervello rispetto alle altre specie fa sì che i mammiferi abbiano capacità intellettive più sviluppate che non gli altri animal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516720" y="508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Cranio di scimpanz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paon"/>
          <p:cNvPicPr/>
          <p:nvPr/>
        </p:nvPicPr>
        <p:blipFill>
          <a:blip r:embed="rId1"/>
          <a:stretch/>
        </p:blipFill>
        <p:spPr>
          <a:xfrm>
            <a:off x="684360" y="1935000"/>
            <a:ext cx="3878280" cy="4923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95640" y="206064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rpo dei vertebrati può essere ricoperto d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lle nud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anfibi),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gli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pesci),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qua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rettili),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iu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uccelli)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e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mammiferi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5280" y="112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sistema di rivest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o schel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971640" y="2133720"/>
            <a:ext cx="41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tronco è formato da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lonna vertebr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asse di sostegno del corpo, le cui vertebre sono intervallate da dischi fibros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702000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Scheletro di giraff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Picture 9" descr="scheletro giraffa"/>
          <p:cNvPicPr/>
          <p:nvPr/>
        </p:nvPicPr>
        <p:blipFill>
          <a:blip r:embed="rId1"/>
          <a:stretch/>
        </p:blipFill>
        <p:spPr>
          <a:xfrm>
            <a:off x="4356000" y="836640"/>
            <a:ext cx="2638440" cy="537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" descr="scheletrofoca"/>
          <p:cNvPicPr/>
          <p:nvPr/>
        </p:nvPicPr>
        <p:blipFill>
          <a:blip r:embed="rId1"/>
          <a:stretch/>
        </p:blipFill>
        <p:spPr>
          <a:xfrm>
            <a:off x="1547640" y="4508640"/>
            <a:ext cx="6120000" cy="2097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o schel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50920" y="191628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mammiferi generalmente possegg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attro ar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he, in relazione al genere di vita che conducono, presentano notevoli diversità: per esempio gli animali adattati all'ambiente marino sono privi degli arti posteriori e quelli anteriori sono molto ridotti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atatoi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835280" y="62164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Scheletro di fo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9" descr="denti_gatto"/>
          <p:cNvPicPr/>
          <p:nvPr/>
        </p:nvPicPr>
        <p:blipFill>
          <a:blip r:embed="rId1"/>
          <a:stretch/>
        </p:blipFill>
        <p:spPr>
          <a:xfrm>
            <a:off x="4140360" y="1341360"/>
            <a:ext cx="4419360" cy="52214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79280" y="126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 d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826920" y="2133720"/>
            <a:ext cx="309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i mammiferi si osservano diversi tipi di denti specializzati per i diversi tipi di alimentazion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terodontì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586560" y="9079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Denti del gat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9" descr="orso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28386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268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temperatura del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042920" y="2349360"/>
            <a:ext cx="396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e gli uccelli, i mammiferi s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meoter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la temperatura del loro corpo è costante e non dipende da quella dell’ambiente estern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volpe"/>
          <p:cNvPicPr/>
          <p:nvPr/>
        </p:nvPicPr>
        <p:blipFill>
          <a:blip r:embed="rId1"/>
          <a:stretch/>
        </p:blipFill>
        <p:spPr>
          <a:xfrm>
            <a:off x="4140360" y="1916280"/>
            <a:ext cx="3798720" cy="34527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9280" y="1268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temperatura del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1042920" y="234936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antenere costante la temperatura richiede molta energia; ecco perché un mammifero deve mangiare mol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pipistrello"/>
          <p:cNvPicPr/>
          <p:nvPr/>
        </p:nvPicPr>
        <p:blipFill>
          <a:blip r:embed="rId1"/>
          <a:stretch/>
        </p:blipFill>
        <p:spPr>
          <a:xfrm>
            <a:off x="1042920" y="1557360"/>
            <a:ext cx="2086200" cy="2571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79280" y="1268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 temperatura del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2627280" y="227664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inverno, nei luoghi più freddi e con cibo scarso, alcuni mammiferi vanno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tar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9" descr="orsopolare"/>
          <p:cNvPicPr/>
          <p:nvPr/>
        </p:nvPicPr>
        <p:blipFill>
          <a:blip r:embed="rId1"/>
          <a:stretch/>
        </p:blipFill>
        <p:spPr>
          <a:xfrm>
            <a:off x="4019400" y="2276640"/>
            <a:ext cx="5124600" cy="33145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79280" y="1268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rivest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5280" y="2219400"/>
            <a:ext cx="424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rpo dei mammiferi è ricoperto, almeno in parte, da peli che hanno una funzione isolante, così da aiutare il corpo a mantenere la temperatura costant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delfini"/>
          <p:cNvPicPr/>
          <p:nvPr/>
        </p:nvPicPr>
        <p:blipFill>
          <a:blip r:embed="rId1"/>
          <a:stretch/>
        </p:blipFill>
        <p:spPr>
          <a:xfrm>
            <a:off x="4427640" y="217656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9280" y="1268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rifornimento di ossige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95280" y="264636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mammiferi sono dotati di polmoni che utilizzano per respirare l’ossigeno dell’aria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mammiferi acquatici devono risalire in superficie per respir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7928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646360"/>
            <a:ext cx="52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econdo il diverso tipo di riproduzione, i mammiferi vengono divisi in tre gruppi: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onotre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arsupi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lacenta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9" descr="koala"/>
          <p:cNvPicPr/>
          <p:nvPr/>
        </p:nvPicPr>
        <p:blipFill>
          <a:blip r:embed="rId1"/>
          <a:stretch/>
        </p:blipFill>
        <p:spPr>
          <a:xfrm>
            <a:off x="5580000" y="2276640"/>
            <a:ext cx="2543400" cy="2647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79280" y="1268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8" descr="getmedia"/>
          <p:cNvPicPr/>
          <p:nvPr/>
        </p:nvPicPr>
        <p:blipFill>
          <a:blip r:embed="rId1"/>
          <a:stretch/>
        </p:blipFill>
        <p:spPr>
          <a:xfrm>
            <a:off x="3276720" y="2176560"/>
            <a:ext cx="5651280" cy="3340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395280" y="2421000"/>
            <a:ext cx="35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onotre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ono mammiferi che depongono grosse uova, simili a quelle dei rettil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6694560" y="566100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Ornitorin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Necturus_maculosus_medium"/>
          <p:cNvPicPr/>
          <p:nvPr/>
        </p:nvPicPr>
        <p:blipFill>
          <a:blip r:embed="rId1"/>
          <a:stretch/>
        </p:blipFill>
        <p:spPr>
          <a:xfrm>
            <a:off x="4064040" y="2276640"/>
            <a:ext cx="5079960" cy="304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95280" y="198900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i i vertebrati devono utilizzare l’ossigeno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respirazione consiste nell’assunzione e nel-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utilizzo dell’ossigen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olmon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ermettono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 catturare questo gas dall’aria che ne è ricca, l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ranchi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dall’acqua in cui è disciol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112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Il sistema respirato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098400" y="5181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Necturus maculosus</a:t>
            </a:r>
            <a:br>
              <a:rPr sz="1800"/>
            </a:br>
            <a:r>
              <a:rPr b="0" lang="it-IT" sz="1800" spc="-1" strike="noStrike">
                <a:solidFill>
                  <a:srgbClr val="0000ff"/>
                </a:solidFill>
                <a:latin typeface="Comic Sans MS"/>
              </a:rPr>
              <a:t>(anfibi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canguromarsupio"/>
          <p:cNvPicPr/>
          <p:nvPr/>
        </p:nvPicPr>
        <p:blipFill>
          <a:blip r:embed="rId1"/>
          <a:stretch/>
        </p:blipFill>
        <p:spPr>
          <a:xfrm>
            <a:off x="3403440" y="404640"/>
            <a:ext cx="5740560" cy="62359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4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79280" y="1268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95280" y="1916280"/>
            <a:ext cx="381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arsupiali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privi di placenta, i piccoli, partoriti immaturi,  si arrampicano ai peli della madre fino ad arrivare al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arsup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una sacca cutanea dove completano lo svilup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9" descr="gattoallatta"/>
          <p:cNvPicPr/>
          <p:nvPr/>
        </p:nvPicPr>
        <p:blipFill>
          <a:blip r:embed="rId1"/>
          <a:stretch/>
        </p:blipFill>
        <p:spPr>
          <a:xfrm>
            <a:off x="3708360" y="2070000"/>
            <a:ext cx="5400720" cy="3591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79280" y="1268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971640" y="2349360"/>
            <a:ext cx="374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lacentati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i mammifer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iù evoluti: partoriscono piccoli sviluppati alla fine della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gest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9" descr="allattamentoMucca"/>
          <p:cNvPicPr/>
          <p:nvPr/>
        </p:nvPicPr>
        <p:blipFill>
          <a:blip r:embed="rId1"/>
          <a:stretch/>
        </p:blipFill>
        <p:spPr>
          <a:xfrm>
            <a:off x="0" y="2244600"/>
            <a:ext cx="6048360" cy="46134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79280" y="1268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’allatt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00720" y="1844640"/>
            <a:ext cx="41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i i mammiferi possiedono ghiandole mammarie che secernono il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t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liquido estremamente nutriente e unico alimento subito dopo la nasci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Mammif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928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’apprend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55640" y="19162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urante l’allattamento i cuccioli apprendono dai genitori i comportamenti che li metteranno in grado di affrontare le difficoltà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a caratteristica unica dei mammiferi è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apprendimento attraverso il gioc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Picture 9" descr="cuccioli"/>
          <p:cNvPicPr/>
          <p:nvPr/>
        </p:nvPicPr>
        <p:blipFill>
          <a:blip r:embed="rId1"/>
          <a:stretch/>
        </p:blipFill>
        <p:spPr>
          <a:xfrm>
            <a:off x="2411280" y="4149720"/>
            <a:ext cx="4546800" cy="2324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45720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lion&amp;lioness"/>
          <p:cNvPicPr/>
          <p:nvPr/>
        </p:nvPicPr>
        <p:blipFill>
          <a:blip r:embed="rId1"/>
          <a:stretch/>
        </p:blipFill>
        <p:spPr>
          <a:xfrm>
            <a:off x="0" y="1650960"/>
            <a:ext cx="6516720" cy="520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183280" y="2133720"/>
            <a:ext cx="34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i i vertebrati  si riproducono mediante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produzione sessu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utte le specie hanno sia il genere maschile, sia il genere femmini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95280" y="112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gravidanza"/>
          <p:cNvPicPr/>
          <p:nvPr/>
        </p:nvPicPr>
        <p:blipFill>
          <a:blip r:embed="rId1"/>
          <a:stretch/>
        </p:blipFill>
        <p:spPr>
          <a:xfrm>
            <a:off x="4427640" y="2276640"/>
            <a:ext cx="4427280" cy="351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042920" y="2205000"/>
            <a:ext cx="46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incontro delle cellule specializzate per la riproduzion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amet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può avvenire nell’ambiente in cui gli animali vivono (pesci e anfibi) oppure internamente alla femmi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a50021"/>
                </a:solidFill>
                <a:latin typeface="Comic Sans MS"/>
              </a:rPr>
              <a:t>Vertebr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95280" y="112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La ripro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28:53Z</dcterms:created>
  <dc:creator>amedeo</dc:creator>
  <dc:description/>
  <dc:language>en-US</dc:language>
  <cp:lastModifiedBy>Amedeo</cp:lastModifiedBy>
  <dcterms:modified xsi:type="dcterms:W3CDTF">2014-03-11T19:42:48Z</dcterms:modified>
  <cp:revision>125</cp:revision>
  <dc:subject/>
  <dc:title>L’ambiente e l’ecologia</dc:title>
</cp:coreProperties>
</file>